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  <p:sldId id="307" r:id="rId84"/>
    <p:sldId id="308" r:id="rId85"/>
    <p:sldId id="309" r:id="rId86"/>
    <p:sldId id="310" r:id="rId87"/>
    <p:sldId id="311" r:id="rId88"/>
    <p:sldId id="312" r:id="rId89"/>
    <p:sldId id="313" r:id="rId90"/>
    <p:sldId id="314" r:id="rId91"/>
    <p:sldId id="315" r:id="rId92"/>
    <p:sldId id="316" r:id="rId93"/>
    <p:sldId id="317" r:id="rId94"/>
    <p:sldId id="318" r:id="rId95"/>
    <p:sldId id="319" r:id="rId96"/>
    <p:sldId id="320" r:id="rId97"/>
    <p:sldId id="321" r:id="rId98"/>
    <p:sldId id="322" r:id="rId99"/>
    <p:sldId id="323" r:id="rId100"/>
    <p:sldId id="324" r:id="rId101"/>
    <p:sldId id="325" r:id="rId102"/>
    <p:sldId id="326" r:id="rId103"/>
    <p:sldId id="327" r:id="rId104"/>
    <p:sldId id="328" r:id="rId105"/>
    <p:sldId id="329" r:id="rId106"/>
    <p:sldId id="330" r:id="rId107"/>
    <p:sldId id="331" r:id="rId108"/>
    <p:sldId id="332" r:id="rId109"/>
    <p:sldId id="333" r:id="rId110"/>
    <p:sldId id="334" r:id="rId111"/>
    <p:sldId id="335" r:id="rId112"/>
    <p:sldId id="336" r:id="rId113"/>
    <p:sldId id="337" r:id="rId114"/>
    <p:sldId id="338" r:id="rId115"/>
    <p:sldId id="339" r:id="rId116"/>
    <p:sldId id="340" r:id="rId117"/>
    <p:sldId id="341" r:id="rId118"/>
    <p:sldId id="342" r:id="rId119"/>
    <p:sldId id="343" r:id="rId120"/>
    <p:sldId id="344" r:id="rId121"/>
    <p:sldId id="345" r:id="rId122"/>
    <p:sldId id="346" r:id="rId123"/>
    <p:sldId id="347" r:id="rId124"/>
    <p:sldId id="348" r:id="rId125"/>
    <p:sldId id="349" r:id="rId126"/>
    <p:sldId id="350" r:id="rId127"/>
    <p:sldId id="351" r:id="rId128"/>
    <p:sldId id="352" r:id="rId1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slide" Target="slides/slide52.xml"/><Relationship Id="rId85" Type="http://schemas.openxmlformats.org/officeDocument/2006/relationships/slide" Target="slides/slide53.xml"/><Relationship Id="rId86" Type="http://schemas.openxmlformats.org/officeDocument/2006/relationships/slide" Target="slides/slide54.xml"/><Relationship Id="rId87" Type="http://schemas.openxmlformats.org/officeDocument/2006/relationships/slide" Target="slides/slide55.xml"/><Relationship Id="rId88" Type="http://schemas.openxmlformats.org/officeDocument/2006/relationships/slide" Target="slides/slide56.xml"/><Relationship Id="rId89" Type="http://schemas.openxmlformats.org/officeDocument/2006/relationships/slide" Target="slides/slide57.xml"/><Relationship Id="rId90" Type="http://schemas.openxmlformats.org/officeDocument/2006/relationships/slide" Target="slides/slide58.xml"/><Relationship Id="rId91" Type="http://schemas.openxmlformats.org/officeDocument/2006/relationships/slide" Target="slides/slide59.xml"/><Relationship Id="rId92" Type="http://schemas.openxmlformats.org/officeDocument/2006/relationships/slide" Target="slides/slide60.xml"/><Relationship Id="rId93" Type="http://schemas.openxmlformats.org/officeDocument/2006/relationships/slide" Target="slides/slide61.xml"/><Relationship Id="rId94" Type="http://schemas.openxmlformats.org/officeDocument/2006/relationships/slide" Target="slides/slide62.xml"/><Relationship Id="rId95" Type="http://schemas.openxmlformats.org/officeDocument/2006/relationships/slide" Target="slides/slide63.xml"/><Relationship Id="rId96" Type="http://schemas.openxmlformats.org/officeDocument/2006/relationships/slide" Target="slides/slide64.xml"/><Relationship Id="rId97" Type="http://schemas.openxmlformats.org/officeDocument/2006/relationships/slide" Target="slides/slide65.xml"/><Relationship Id="rId98" Type="http://schemas.openxmlformats.org/officeDocument/2006/relationships/slide" Target="slides/slide66.xml"/><Relationship Id="rId99" Type="http://schemas.openxmlformats.org/officeDocument/2006/relationships/slide" Target="slides/slide67.xml"/><Relationship Id="rId100" Type="http://schemas.openxmlformats.org/officeDocument/2006/relationships/slide" Target="slides/slide68.xml"/><Relationship Id="rId101" Type="http://schemas.openxmlformats.org/officeDocument/2006/relationships/slide" Target="slides/slide69.xml"/><Relationship Id="rId102" Type="http://schemas.openxmlformats.org/officeDocument/2006/relationships/slide" Target="slides/slide70.xml"/><Relationship Id="rId103" Type="http://schemas.openxmlformats.org/officeDocument/2006/relationships/slide" Target="slides/slide71.xml"/><Relationship Id="rId104" Type="http://schemas.openxmlformats.org/officeDocument/2006/relationships/slide" Target="slides/slide72.xml"/><Relationship Id="rId105" Type="http://schemas.openxmlformats.org/officeDocument/2006/relationships/slide" Target="slides/slide73.xml"/><Relationship Id="rId106" Type="http://schemas.openxmlformats.org/officeDocument/2006/relationships/slide" Target="slides/slide74.xml"/><Relationship Id="rId107" Type="http://schemas.openxmlformats.org/officeDocument/2006/relationships/slide" Target="slides/slide75.xml"/><Relationship Id="rId108" Type="http://schemas.openxmlformats.org/officeDocument/2006/relationships/slide" Target="slides/slide76.xml"/><Relationship Id="rId109" Type="http://schemas.openxmlformats.org/officeDocument/2006/relationships/slide" Target="slides/slide77.xml"/><Relationship Id="rId110" Type="http://schemas.openxmlformats.org/officeDocument/2006/relationships/slide" Target="slides/slide78.xml"/><Relationship Id="rId111" Type="http://schemas.openxmlformats.org/officeDocument/2006/relationships/slide" Target="slides/slide79.xml"/><Relationship Id="rId112" Type="http://schemas.openxmlformats.org/officeDocument/2006/relationships/slide" Target="slides/slide80.xml"/><Relationship Id="rId113" Type="http://schemas.openxmlformats.org/officeDocument/2006/relationships/slide" Target="slides/slide81.xml"/><Relationship Id="rId114" Type="http://schemas.openxmlformats.org/officeDocument/2006/relationships/slide" Target="slides/slide82.xml"/><Relationship Id="rId115" Type="http://schemas.openxmlformats.org/officeDocument/2006/relationships/slide" Target="slides/slide83.xml"/><Relationship Id="rId116" Type="http://schemas.openxmlformats.org/officeDocument/2006/relationships/slide" Target="slides/slide84.xml"/><Relationship Id="rId117" Type="http://schemas.openxmlformats.org/officeDocument/2006/relationships/slide" Target="slides/slide85.xml"/><Relationship Id="rId118" Type="http://schemas.openxmlformats.org/officeDocument/2006/relationships/slide" Target="slides/slide86.xml"/><Relationship Id="rId119" Type="http://schemas.openxmlformats.org/officeDocument/2006/relationships/slide" Target="slides/slide87.xml"/><Relationship Id="rId120" Type="http://schemas.openxmlformats.org/officeDocument/2006/relationships/slide" Target="slides/slide88.xml"/><Relationship Id="rId121" Type="http://schemas.openxmlformats.org/officeDocument/2006/relationships/slide" Target="slides/slide89.xml"/><Relationship Id="rId122" Type="http://schemas.openxmlformats.org/officeDocument/2006/relationships/slide" Target="slides/slide90.xml"/><Relationship Id="rId123" Type="http://schemas.openxmlformats.org/officeDocument/2006/relationships/slide" Target="slides/slide91.xml"/><Relationship Id="rId124" Type="http://schemas.openxmlformats.org/officeDocument/2006/relationships/slide" Target="slides/slide92.xml"/><Relationship Id="rId125" Type="http://schemas.openxmlformats.org/officeDocument/2006/relationships/slide" Target="slides/slide93.xml"/><Relationship Id="rId126" Type="http://schemas.openxmlformats.org/officeDocument/2006/relationships/slide" Target="slides/slide94.xml"/><Relationship Id="rId127" Type="http://schemas.openxmlformats.org/officeDocument/2006/relationships/slide" Target="slides/slide95.xml"/><Relationship Id="rId128" Type="http://schemas.openxmlformats.org/officeDocument/2006/relationships/slide" Target="slides/slide96.xml"/><Relationship Id="rId129" Type="http://schemas.openxmlformats.org/officeDocument/2006/relationships/slide" Target="slides/slide97.xml"/><Relationship Id="rId1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18A-DBDB-4C47-9589-5CCC35BFC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39D-4A76-4932-AC68-BAFE0ABA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0EA82-0D52-4A6B-ADC2-17CD53EB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20832-F2CB-4FFB-AC51-7DB75A5B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D0405-2676-445C-AA7F-E1E825AF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B7426-BCC6-4C34-ADCE-065741A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6481F-0C84-45AB-9BDB-F36F06A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ACA4F-0616-4742-9952-E161A2FE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24ED9-AFE7-4D32-8807-73D61B1D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3361A-C9EA-4CD5-8588-720831D4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578B4-5A73-41F3-8A1A-C7EC4D4B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DC1A0-AF29-4660-B822-6392652A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A7D-1B80-4577-84D5-37510363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1AF5C-F586-4099-B757-298EEE0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99B9D-0169-415A-BE15-A697690B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80515-3E60-49E9-B543-AE1FDCCE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DEB47-6D5D-4A22-BBC4-3BF55BE0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206C2-39FC-4114-8F51-1F910CA3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84531-9855-4D9D-BE77-F41BA25B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0F410-5D7D-46D7-9A47-9BDB4D83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1E4A4-5F01-4B9E-8CEA-ACE40AC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5C08D-FE83-4B38-8BC8-84C4AFF4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BFEBA-C407-4307-B32A-81BC7AFE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ADA-3E24-47A0-A3FE-63659230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26CD9-0985-4697-96A5-2570119E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047B5-464B-481F-94F3-301A3D50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CC8BC-A891-4D7C-A74C-C39779D7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1B3FD-6AAE-4179-ADB6-64BF249F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A00F2-4367-4CC3-A9A0-5702BB61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C813A-22DD-4453-93DC-57D5C96E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B6BF0-8E88-436B-844E-A248CE4A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7FAA2-4643-47A1-AA99-48A9E3A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043AF-04CE-4CC9-9536-D9F52E5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7AF47-8627-4EDB-AB8C-1863570E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A8C1-4D48-455A-86B0-ED9C70D0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179B8-3120-4611-9ECF-8D123246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4A563-862D-43C5-8DDE-CE75B5AA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E5EDD-CA2B-46DD-B6BF-0BC32AC9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8BE8B-3A7A-4A11-9025-93BEA0D3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71C29-0FCC-4A39-A2B3-4732EFEE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55ECD-5655-4937-9D27-31CFB070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9E377-842E-473B-8E66-5D58B5B4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37BE2-C507-4416-80C0-55BB1111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57062-DF0C-4AF5-83D8-857150F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84997-0D66-41C2-A015-F33A9A5A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8549-33F7-4CF9-A289-644A627C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02193-B4FE-49E2-B28F-353F0C1A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0B692-6D00-43FA-9655-A8EAD23D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F1D91-3BA3-4D52-A896-E60EB1D7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E3739-7F21-471E-9311-E469148B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B6A91-4332-4138-86E1-682B3DBD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6CF8B-DF96-4AD8-93D7-C90C1974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6835D-C622-443D-8B9A-119C0B48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23488-7FF1-47F6-93F9-2C4D12D2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A752A-A81B-4F18-9DC5-A8B0F5E8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F202F-B3AB-4762-842B-0822D2E0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DD4-6616-412B-8F9A-3B2D7AF2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082E9-57F0-45FF-89E1-4663EA81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17B57-4A46-4B42-98A3-094B5D71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27982-7D4C-4851-998E-79F4CC66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D904D-17FD-4AC2-9974-B5642CE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6DA06-D457-4C78-A10E-44E70D38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14979-F44B-4753-9C84-3674B03B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52861-4F40-4A69-8783-EC8E67B0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EFD43-DB87-423E-9FE9-1D6DAF8E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6872A-159E-4E95-925F-0D630F03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E7CDF-DF83-435C-ADBD-D85BD138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4D24-B198-4E9F-978E-8F7A5D8C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E3CD6-0DED-44E2-8FBC-170977C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72BAE-9AD5-41C8-9535-2AD03DB2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1A429-1446-4F5F-89D3-E1B60A2B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0EE73-12AF-4260-8D3A-BECEE5B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F947E-99C4-4DA6-B9A7-9F90133A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2D45D-CACB-460F-A0E6-ADF78F9F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65432-C393-47E8-AEA5-C38068FB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E1654-A833-4EE8-B533-0268C98D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4A63D7-BD75-4D82-8DA8-23B234B7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1848B-CCA0-48CA-B508-15D3A36E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54AF-FB21-40F1-8C11-8840D17B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C4270-FD1E-4CEC-B8EE-3B172E5C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6D57D-021C-4A11-83D7-45B281F5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E3CA8-537C-4B5A-BD04-62D54A54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E91E9-9F7C-4A89-BB39-B2B094A8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43870C-2074-4AB7-8BAB-4EBFF334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6059B-06AF-4EF0-9A97-0865B017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2550CA-6E27-4495-AA63-F5273342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38E91-EBEF-4F1D-A80B-CD2D8867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007FA-AAB7-4BC6-A164-C1B3C6F0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8290E-BE83-4FED-8C37-166BB3A6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4123-FDAD-44AA-9528-6CE1B624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E93B0-35CB-4C61-A268-9A122978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00FB38-B70E-4F55-A797-B1D8F1A1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1B00F-8819-431C-976B-B71EC83B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671853-5BEF-40CA-9434-C3B0F394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1EEA8-88BF-4414-A34C-BBE874DA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762B5-D149-4C98-9490-0DA3E252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38F77-A5CA-41D0-AADD-958458DA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3EFF7-435F-4B8F-A5DF-D491115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945E2-80E7-4F51-A08A-A5CBDD2C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00B53-89E6-45D9-8A64-72E98E0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8634-4319-4854-B935-4EC69A8A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17EA3-B9E4-4424-B95E-28378DE1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FEB89D-357B-40D1-BC41-6211ADA8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6D77C-867B-4C32-8ADE-331356C8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29D11-B367-4F02-8913-E1846829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F30A3-2B5F-4ACA-9BF3-D1546674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DCC600-7CA1-477D-BB0E-A7901092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D6463-64D9-4EE9-AF47-74AC6B15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0F600-484D-45A2-A1AC-1A2C1447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6638C-17EF-4B86-B2B9-B7DE4726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AECCF-4841-4B56-B57E-436D7FE6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DE1-FB9F-4C40-B043-5F6C7CED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28A4-247E-4DB3-821B-ED578978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32417-7A54-4131-94B0-82E28EE6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03B52A-34E0-461F-AD3B-E7E2433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7F506-886F-414D-AB26-A861D4C3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3F84A-A012-4BD7-827C-FE9FF847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E0AC4-48BD-491D-A638-561886EB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BF80C5-3FF8-4C76-8BC4-BD1C34C8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5D8B6-4795-4AD2-A4C0-9CF9E5C8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F8F33-8616-4939-A45E-45CFEC10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3A8C59-C361-4A43-83FF-C08A4F05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00F32-BFF2-4723-8951-491D68B3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8EB9-EADA-4354-9689-E9618FDC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66413-C19D-4302-AC27-D6347CF1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5563A-EE24-43BB-B8C3-C61CBBD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E94A4-0E37-4150-B4A4-EBADDBE0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93735E-D533-4CE6-B669-4E81AFB8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8E8E3-2FF4-4145-B98E-5032BA3A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6803A8-7EE2-4490-B41F-6A79DC7E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0A009-E884-4493-B983-3D477A27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5FF57-72B4-4816-AFDF-2049AD85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0AF6B-73E4-4165-BC43-2FBEC944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37EC6-969D-4610-B777-68FE8ADF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294D-1335-41F7-9972-3988068D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81298-872A-4BD8-93E8-7ECF6560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9407A-DA0C-412D-B529-6BB8418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99A87-8748-42A8-92DC-E41C4C57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482C4C-7AA2-4BAE-B4CC-8F0A9159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8CBCF3-12F4-40CF-93C9-455E840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85F382-A6A2-4563-9639-FD364950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A277B-BD8D-44D9-9059-91E7D3FE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24DE5-4DAF-4E17-B0C5-B11A3F29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0FD51-1428-45FE-9ECF-84CC84C1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7CB14D-EB11-4351-A97B-8A079E3A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C636-3E99-46A7-A834-CE8E12E9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BD397-3FC7-4CDF-B4DD-05899D62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D1DC05-AFA0-4716-9E5B-5D5BE595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4C7C0-0CD1-4945-9756-53D996D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AAABFE-792F-4597-A6B3-30A6BE48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9DD45-3AF7-4F1A-A8EF-F658BB6A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4238F-EE65-4CFF-87FD-7A23431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D21F6F-D1DC-412B-AA4A-453DF3B6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9BAF5-8D25-4873-A7F1-F52E7F1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DB19D-A35B-4528-B1CE-9644817B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201E15-D75C-45E7-BF23-EF2718B5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75CF-2917-4068-954E-6036913D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49861-FA81-4252-987E-E5A187C4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F27A6-4013-4A6B-8470-05FE28CD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DD206-914B-4F14-BA53-2D0D9E29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2AA71-2E2A-475D-9B62-C704E8BA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EB69DE-AFD3-42DC-AEDD-A52E3D16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43949E-573C-47F3-83AC-856562A2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B13636-8341-41DA-977D-BC880E9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DF4CA-B651-4858-BE5E-BCE54B05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B4D027-D090-403A-80F6-2574165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0A013-3455-4EF7-A296-D382950B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F409-CB20-44E0-BF4D-26893631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215887-FC4A-4406-A05C-BED4D39E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732FF-AD48-4E5C-86F1-4C41555E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AC503-0B24-417D-B521-1627FE0B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58F26-DBE4-410B-86CA-48A746F8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5B7B36-8D88-4652-A793-4C0AB49A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06FAB2-9717-4FF2-BFFA-A71A1C03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E6742C-24D6-4F29-B76E-F73A4918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D6FB64-360C-410A-99A9-938177E9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92154E-68D2-4CDF-A959-BD994AAB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890999-15F8-4363-8597-7EA5EFD6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81B7-E591-4C6A-970B-4405F8B8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8E3E1-37FE-40CD-B001-EE6F4147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E9D663-542B-4EFB-9976-AF03F6A8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2E6580-9FB2-43BB-AA4D-4C5B2055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D1E763-78FB-481D-828C-2C44CA76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7275E-6BE7-4AC6-A575-FAA2F487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0FE71C-C00F-4136-B55A-FA03802B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9F2102-150D-4321-8975-2A482592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D32A91-7ED5-42F4-AE88-3199442C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02377-2235-4CA3-8C25-1DBB8CEA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BF6C25-E082-41C4-83B0-9E9078C5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427D-530F-4B74-96B7-4760561E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8C0BBA-DDD7-4E80-8069-DFC67049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2978BD-590F-4A09-ACA0-5CADD117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9B8A2E-EE4F-4817-A16C-D255444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B9643F-ABAC-436C-A897-7E2A1270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0A0538-5063-44F2-A881-1D469D2A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7FD9C0-CA38-443E-B609-1A5363D1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1E87BA-DD26-45A6-B1E5-ACDCAAE8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F00E2E-676E-45E6-9A3E-CD19E1A5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71DE53-2670-452C-95BB-9BDD0BD7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5B81FB-107A-4B30-8C70-4B0222BD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B5099-CCCB-4421-8E29-75ED6F6F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40AFD2-D65E-4C45-AD36-07612A34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C403FD-8DEE-4C66-8452-32058A2D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173F94-9BC3-4B62-9EDC-DF25E3BC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C24EAB-0EC3-435F-9068-94FBEF25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B5FB92-52CE-4E74-B3F0-253FBC22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1D6F9E-65E6-4D86-B664-E877D299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8184C2-8740-4DC6-A44D-2978DF11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BC818D-964E-4D3E-9B8A-15EB9F6D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69B881-8B68-450C-968B-1C61DFA8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7C3AF9-6572-429D-8EB9-A3997CF9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C045-BD99-4BE3-92FD-DC7EC9A5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AEDBC0-D660-45B2-A2E7-B898340B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9F85FD-063E-4EC9-B6E2-FC9CCCCB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154D19-9619-41BE-A9F0-4325398F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C01B03-B3E8-4ED8-A104-04062DAE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5658CD-D93A-4C9F-8943-47BF9F5E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AFF582-6CEF-49C2-A901-C2944B9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9B7482-E132-4B08-A822-F21B833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BA36AF-F85F-495E-A3E2-AA0607F2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E88D31-9BC9-4935-9FBE-FE67EE2F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6CD14B-67AD-431F-9348-9C4218F6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48A-EE66-452F-BD9C-E10CB937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C8DF-4611-45DF-A341-0A99E389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06E86D-F46C-441A-8078-80F1D6CF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3BB57D-7D5C-4DCE-B07C-B8FF00BB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8FAADD-A509-4907-B706-069DC11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40163F-FF41-42B5-A3B0-6DBC074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D9BE2D-A625-43D9-A342-CFA8939A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9FDB8E-26BA-4FB7-9043-4A79B3CD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EF4FCE-DDDA-4E9B-8D28-FD6696A1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5E19DB-9E80-4B43-837A-D6767742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F63CD6-D113-41BF-BFC5-94C13073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594623-0FDE-4C64-8EF2-18AE0B83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50FCA-E43A-43B1-B1F5-85D5824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59BE19-9C05-42AB-A443-267E3162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C1C2A7-5FC8-4FB5-B28F-A06E67A2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6FE7F7-CA01-406C-BD7C-ABCC3D89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121001-2554-48BE-B338-A53C5275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86973A-FD5F-464A-8073-18B53F35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69568A-DC44-404B-9F37-685435D0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72492F-57EB-4481-AE17-BAFB4B9B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88FF14-51FF-40D2-BAD3-92837B8A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D72304-59EE-431F-B8A0-7E101598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F84796-05FC-45ED-B84B-D1771385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F0014-9F52-415B-BF06-FE023564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CD4F10-253D-442E-9E51-045EF54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C28A06-EBF5-482E-94A1-D02D0640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AB9B34-D805-4C35-8A2C-755154DD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9AC1C7-B973-435B-867B-B6018E76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1A47B7-E20C-4745-BDBA-5201DB11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274E2E-6DC4-44A0-9AC0-1ABF3D17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C8EDBB-1585-47A2-B7A9-A409BACE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F21162-29D0-48BE-9F44-599C22AC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2ED486-5EA5-4C95-99F0-CBF42E2B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8F1157-BB87-4A83-9C69-9DE2F33F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D3D1-F6E3-4F6B-9163-114323DF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C580C3-1A29-4C25-8380-5F58B147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4CEF5B-6FEB-4543-BD3F-0B265A1D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08FB7B-5E61-40F5-BDF2-A884367D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0A3AAE-85AC-4606-AE36-F4160380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E87ACD-29F8-412B-BDDF-F0D5D25A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E94240-5436-4BC4-9304-0E2D8E51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2CF7FB-0E2E-46F2-AA31-807AA476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1A5CA8-8FF3-4B73-A85E-1AFC954B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56BCB7-F1AD-4B32-BBF3-DBBDF7AB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EAB9E4-397F-4CD4-825B-D0C24B1E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C044-E318-4CE2-A30E-D48948CE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26CF11-C567-4D8D-948D-C082DB5E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0A8083-DC09-4A2E-8FE4-19BD1291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85F266-BEEE-42E6-8767-4D8F00FE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EDE551-E84C-4B37-AA9D-50A4BF9B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DBEE05-BF03-4E23-BF7B-503AA938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038408-E983-4178-836A-BE796D9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2C9E9F-D160-4497-B8FA-43170E8A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AEAA6E-79A6-423D-AACD-5601945B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5C119B-1461-4F4F-B960-B1713DFD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2E407B-DE76-47CF-ACDE-512E68AC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958A-5D8F-4CD9-8ECE-FC0DF206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87CF9C-C8DC-4AEE-90C5-76E54616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7DBB6A-0123-4AE7-9058-15923449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1C65AD-F2D6-4A91-9A0D-AF864C51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E2B394-5E83-49AC-88B9-007E7264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9AEA38-CFA7-41A1-A214-87288E29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EC2787-F5F0-490E-89CB-A267E1E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6C13DB-73F8-46D1-8198-DA3B275F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80A22F-CB59-41EB-B344-E6A8C548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F2BAC7-81E0-42F4-8436-3C8C1E49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8E965C-BEE4-425C-A13F-ED2CE162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F9EA-6E53-4F41-B64E-EEC32C6D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98F39D-EFD9-41CC-842A-7F99880F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F16B5D-B89F-4E2B-ACD6-AF867F08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09CD2B-144C-4883-8A40-017ACCE2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4141EA-4C55-4773-A559-B77F2CFC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C78A1A-46E5-4BA3-B37A-3F2D064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0EE996-D2AD-4BEE-BAF6-0163A51B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395189-97F1-4EFC-8D67-41C449EE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AE68DE-CD1C-4B62-8F17-53ED78B1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6EC3D6-E26F-456F-BB17-0FBB5E56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C2518B-18F2-4D9E-9169-3FFAECE7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734F-B3BB-4226-B0B4-4F60A122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189C5D-6323-4E2E-BCC3-59343F47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3F0437-3CC8-4DEA-A210-11DDD3CC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22A46D-FB0E-4C32-91AC-CCC2D3AD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4CDB3-A017-4FDF-AB7D-9188BCD6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757DA-F275-45D6-8269-66426E79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AEA-07F3-40A7-9F33-4E88B3A9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6790A-0EFF-4E07-9A85-5A00E690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0179-2E51-467D-AD62-4B2FEB72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A874-0DA8-40A9-9812-85628221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8554A-E5F6-4F08-AEEF-C70F4BBC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00B7-4FAF-4328-A9FE-394BB2C3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7673-6537-4771-910A-A54AA8E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844C8-A0EF-496A-8B64-0ECA7DD6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1A53-08D5-4456-BCCA-0B9E303F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1F3F-73B9-49FE-B0F1-8AF8D98B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5384-7C8D-40B8-802F-3EA82F42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68D0-AE2C-4617-8479-E66F9869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B5095-032A-45D8-A609-8782A2CF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738FA-28ED-4C21-B908-FA6CFA1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5B024-D92C-4E4C-BDB4-3729481B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8976-7504-4345-9AE5-AE66FC16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6117-C63F-4235-937F-17F13965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6AC36-70E4-40F2-B3E9-C70B0725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2A1D8-C090-4C20-97DB-F12A0EE0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C1D10-56AF-4A73-B5A8-B09CC8AA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EA34B-B7CA-4DF7-8397-E2BDD6E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AAB-74A8-4744-8BB3-1964AFA4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C8B9-7DD9-45EE-B152-1FCA5AC4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9DFB-97EE-4117-BCC1-36119E94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B6DD3-FD20-4BDD-8A01-63C1E032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8B144-77AD-4E2C-8AA1-B147E0F7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3B18-DAC6-4C96-AE04-1B4366A2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2584-3F34-4D2A-A5E9-BD8DD06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9B5EA-1CBA-43CF-99D4-731BBE60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027AF-0A7A-4D80-98BC-DC336E99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C5372-C22E-47DD-8F86-1C46537B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0F6EF-BBF0-4D59-936A-9B5E365D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010-9690-4434-997E-FDA610EA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31EBD-5F61-4DB8-B3E9-92299DA1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10DB2-A9F4-4109-A1C9-864C7DC4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1C1F-49D4-4D51-8518-4C86D5D0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E46CC-C124-426A-8FEB-3701A139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784C6-CE3B-45BA-832C-A0D8DEC9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28C14-CC06-43EA-9C4C-EE3725BC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FEC35-67D2-4442-AFC0-75410FB2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2894-1074-4E3D-986A-CA6D730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E744F-3A5B-44D6-99C4-EEB3AD9E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F6B8C-283F-4CDA-B116-10219AD3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DFB-A9C7-4788-8D94-09CF4506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C8140-C6BA-4D7C-BFC5-A5B7472D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5595D-CDBA-4123-9446-4FB006D8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D4D9E-3756-4159-9BB8-2DBD291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FDA4B-898E-4BAF-B18D-D9F4BB47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2C55D-3759-4AE5-8605-36F7FF7A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94040-0044-4845-AD9D-3ADA91DA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5ABAC-DA95-48C2-80FE-0C9A24B8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50092-E0C8-4C49-AEDD-5323183F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3C2F-502C-443D-8CAA-01D0749D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7C95C-FF37-4035-A13B-8667E31A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CA7-E054-40A0-B22C-5A09B0D8BA25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3A43-AD41-4468-A78E-0C3374A50B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A69D-6938-4B29-964D-D6B3FD5E63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E19-EDF5-48DC-9E6F-51DC86C136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A687-E93C-43F8-A906-44DA03F76A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A850-603E-4E05-8194-575B6CFD13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B864-57B8-47A7-A37A-C2205A9033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DB8D-E426-470E-B249-3EFB63B15A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9643-FDFF-44F3-A130-BA1B10CF30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D454-0E11-477E-8FC2-40C69E7077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680A-E4C7-48EA-8AF6-9864F46D28B3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1703520"/>
            <a:ext cx="7772400" cy="277560"/>
          </a:xfrm>
          <a:prstGeom prst="rect">
            <a:avLst/>
          </a:prstGeom>
          <a:ln w="0">
            <a:noFill/>
          </a:ln>
        </p:spPr>
      </p:pic>
      <p:sp>
        <p:nvSpPr>
          <p:cNvPr id="42" name="Line 3"/>
          <p:cNvSpPr/>
          <p:nvPr/>
        </p:nvSpPr>
        <p:spPr>
          <a:xfrm>
            <a:off x="609480" y="0"/>
            <a:ext cx="0" cy="685800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8610480" y="3240"/>
            <a:ext cx="0" cy="6858000"/>
          </a:xfrm>
          <a:prstGeom prst="line">
            <a:avLst/>
          </a:prstGeom>
          <a:ln w="64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9182-25C1-4EFC-9B40-F7354565C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6D5D-2366-4B58-8D98-3769CB3995A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8CD3-2357-496A-903A-9134DFD4A27B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A85F-78D6-49E8-AE07-BB8B3DFF35EC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6EE6-9AEB-4130-9ABF-3645B436322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E30D-10C1-485F-83BD-8E060B7FE972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5885-329B-48FD-8B64-8B4FBF865E2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7FF5-6605-4016-9CAF-CD9E4015093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D6A8-5599-4D33-9F51-4191DD863F6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323E-1374-4690-B60C-73F368653957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A9A6-4BB7-4094-8C64-1F1AD97EC51C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4748-89E9-4D0A-838F-4C94BDF79E8F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AD7D-1E33-4A80-87F7-00BAE940422D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3B2E-9561-484B-9F4B-79B32104407F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360E-D539-4D57-81EC-F4B83BF719BC}" type="slidenum">
              <a:rPr b="0" lang="en-NZ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0" y="678168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0"/>
            <a:ext cx="9067680" cy="7632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85800" y="2209680"/>
            <a:ext cx="7848720" cy="3886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0" y="3240"/>
            <a:ext cx="15228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9067680" y="0"/>
            <a:ext cx="0" cy="6858000"/>
          </a:xfrm>
          <a:prstGeom prst="line">
            <a:avLst/>
          </a:prstGeom>
          <a:ln w="4428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E4FA-1992-4EAF-9470-10945545BF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3BC9-1E97-4752-BE5F-688CC02B19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0DDB-58BF-4926-8A5A-0937CFE52B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BAA5-111D-4374-9341-A791F7DCC0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tatistics and Modelling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angle 3"/>
          <p:cNvSpPr/>
          <p:nvPr/>
        </p:nvSpPr>
        <p:spPr>
          <a:xfrm>
            <a:off x="533520" y="19051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INTERSECT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9" name="Object 9"/>
          <p:cNvGraphicFramePr/>
          <p:nvPr/>
        </p:nvGraphicFramePr>
        <p:xfrm>
          <a:off x="762120" y="1981080"/>
          <a:ext cx="731520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31520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1" name="Text Box 11"/>
          <p:cNvSpPr/>
          <p:nvPr/>
        </p:nvSpPr>
        <p:spPr>
          <a:xfrm>
            <a:off x="3809880" y="3124080"/>
            <a:ext cx="165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akes Calc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(C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2"/>
          <p:cNvSpPr/>
          <p:nvPr/>
        </p:nvSpPr>
        <p:spPr>
          <a:xfrm>
            <a:off x="3124080" y="5029200"/>
            <a:ext cx="2438640" cy="520560"/>
          </a:xfrm>
          <a:prstGeom prst="rect">
            <a:avLst/>
          </a:prstGeom>
          <a:solidFill>
            <a:srgbClr val="ffffff"/>
          </a:solidFill>
          <a:ln w="66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C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Ph)  =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3"/>
          <p:cNvSpPr/>
          <p:nvPr/>
        </p:nvSpPr>
        <p:spPr>
          <a:xfrm>
            <a:off x="533520" y="19051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4" name="Object 6"/>
          <p:cNvGraphicFramePr/>
          <p:nvPr/>
        </p:nvGraphicFramePr>
        <p:xfrm>
          <a:off x="638280" y="1981080"/>
          <a:ext cx="705780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981080"/>
                    <a:ext cx="70578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4"/>
          <p:cNvSpPr/>
          <p:nvPr/>
        </p:nvSpPr>
        <p:spPr>
          <a:xfrm>
            <a:off x="560520" y="4152960"/>
            <a:ext cx="790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akes Calc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Physics (or 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(C </a:t>
            </a:r>
            <a:r>
              <a:rPr b="1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5"/>
          <p:cNvSpPr/>
          <p:nvPr/>
        </p:nvSpPr>
        <p:spPr>
          <a:xfrm>
            <a:off x="2362320" y="3200400"/>
            <a:ext cx="4706640" cy="642600"/>
          </a:xfrm>
          <a:prstGeom prst="rect">
            <a:avLst/>
          </a:prstGeom>
          <a:solidFill>
            <a:srgbClr val="ffffff"/>
          </a:solidFill>
          <a:ln w="66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P(C </a:t>
            </a:r>
            <a:r>
              <a:rPr b="1" lang="el-GR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Ph)  =</a:t>
            </a: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0" name="Object 8"/>
          <p:cNvGraphicFramePr/>
          <p:nvPr/>
        </p:nvGraphicFramePr>
        <p:xfrm>
          <a:off x="392040" y="2286000"/>
          <a:ext cx="35514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286000"/>
                    <a:ext cx="35514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2" name="Text Box 9"/>
          <p:cNvSpPr/>
          <p:nvPr/>
        </p:nvSpPr>
        <p:spPr>
          <a:xfrm>
            <a:off x="1521000" y="4076640"/>
            <a:ext cx="354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1447920" y="3200400"/>
            <a:ext cx="317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(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5" name="Group 16"/>
          <p:cNvGrpSpPr/>
          <p:nvPr/>
        </p:nvGrpSpPr>
        <p:grpSpPr>
          <a:xfrm>
            <a:off x="5583240" y="2362320"/>
            <a:ext cx="3560760" cy="3885840"/>
            <a:chOff x="5583240" y="2362320"/>
            <a:chExt cx="3560760" cy="3885840"/>
          </a:xfrm>
        </p:grpSpPr>
        <p:graphicFrame>
          <p:nvGraphicFramePr>
            <p:cNvPr id="1356" name="Object 8"/>
            <p:cNvGraphicFramePr/>
            <p:nvPr/>
          </p:nvGraphicFramePr>
          <p:xfrm>
            <a:off x="5583240" y="2362320"/>
            <a:ext cx="3314520" cy="388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3240" y="2362320"/>
                      <a:ext cx="3314520" cy="38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8" name="Text Box 9"/>
            <p:cNvSpPr/>
            <p:nvPr/>
          </p:nvSpPr>
          <p:spPr>
            <a:xfrm>
              <a:off x="6099120" y="3157200"/>
              <a:ext cx="304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00"/>
                  </a:solidFill>
                  <a:latin typeface="Comic Sans MS"/>
                </a:rPr>
                <a:t>P(Ph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Text Box 10"/>
          <p:cNvSpPr/>
          <p:nvPr/>
        </p:nvSpPr>
        <p:spPr>
          <a:xfrm>
            <a:off x="6019920" y="3962520"/>
            <a:ext cx="367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17"/>
          <p:cNvGrpSpPr/>
          <p:nvPr/>
        </p:nvGrpSpPr>
        <p:grpSpPr>
          <a:xfrm>
            <a:off x="304920" y="2286000"/>
            <a:ext cx="4398480" cy="3885840"/>
            <a:chOff x="304920" y="2286000"/>
            <a:chExt cx="4398480" cy="3885840"/>
          </a:xfrm>
        </p:grpSpPr>
        <p:graphicFrame>
          <p:nvGraphicFramePr>
            <p:cNvPr id="1361" name="Object 12"/>
            <p:cNvGraphicFramePr/>
            <p:nvPr/>
          </p:nvGraphicFramePr>
          <p:xfrm>
            <a:off x="304920" y="2286000"/>
            <a:ext cx="3571200" cy="388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2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2286000"/>
                      <a:ext cx="3571200" cy="38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3" name="Text Box 15"/>
            <p:cNvSpPr/>
            <p:nvPr/>
          </p:nvSpPr>
          <p:spPr>
            <a:xfrm>
              <a:off x="1222200" y="3235680"/>
              <a:ext cx="3481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400" spc="-1" strike="noStrike">
                  <a:solidFill>
                    <a:srgbClr val="000000"/>
                  </a:solidFill>
                  <a:latin typeface="Comic Sans MS"/>
                </a:rPr>
                <a:t>P(C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Text Box 11"/>
          <p:cNvSpPr/>
          <p:nvPr/>
        </p:nvSpPr>
        <p:spPr>
          <a:xfrm>
            <a:off x="4114800" y="30481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-0.15521 -0.00811 E">
                                      <p:cBhvr>
                                        <p:cTn id="116" dur="2000" fill="hold"/>
                                        <p:tgtEl>
                                          <p:spTgt spid="1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022E-016 L 0.10538 -0.00556 E">
                                      <p:cBhvr>
                                        <p:cTn id="118" dur="20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3"/>
          <p:cNvSpPr/>
          <p:nvPr/>
        </p:nvSpPr>
        <p:spPr>
          <a:xfrm>
            <a:off x="533520" y="19051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7" name="Object 3"/>
          <p:cNvGraphicFramePr/>
          <p:nvPr/>
        </p:nvGraphicFramePr>
        <p:xfrm>
          <a:off x="990720" y="1981080"/>
          <a:ext cx="662940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662940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9" name="Text Box 4"/>
          <p:cNvSpPr/>
          <p:nvPr/>
        </p:nvSpPr>
        <p:spPr>
          <a:xfrm>
            <a:off x="3352680" y="373392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P(C </a:t>
            </a:r>
            <a:r>
              <a:rPr b="1" lang="en-NZ" sz="4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P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6"/>
          <p:cNvSpPr/>
          <p:nvPr/>
        </p:nvSpPr>
        <p:spPr>
          <a:xfrm>
            <a:off x="1981080" y="28954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0" spc="-1" strike="noStrike">
                <a:solidFill>
                  <a:srgbClr val="000000"/>
                </a:solidFill>
                <a:latin typeface="Comic Sans MS"/>
              </a:rPr>
              <a:t>–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1" name="Object 2"/>
          <p:cNvGraphicFramePr/>
          <p:nvPr/>
        </p:nvGraphicFramePr>
        <p:xfrm>
          <a:off x="304920" y="1523880"/>
          <a:ext cx="822636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822636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3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UN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 (or bo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4"/>
          <p:cNvSpPr/>
          <p:nvPr/>
        </p:nvSpPr>
        <p:spPr>
          <a:xfrm>
            <a:off x="1143000" y="35812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Takes Calc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Physics (or 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(C </a:t>
            </a:r>
            <a:r>
              <a:rPr b="1" lang="el-GR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5"/>
          <p:cNvSpPr/>
          <p:nvPr/>
        </p:nvSpPr>
        <p:spPr>
          <a:xfrm>
            <a:off x="457200" y="2133720"/>
            <a:ext cx="8153280" cy="1477080"/>
          </a:xfrm>
          <a:prstGeom prst="rect">
            <a:avLst/>
          </a:prstGeom>
          <a:solidFill>
            <a:srgbClr val="ffffff"/>
          </a:solidFill>
          <a:ln w="66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So for any 2 events </a:t>
            </a:r>
            <a:r>
              <a:rPr b="1" i="1" lang="en-NZ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l-GR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B)  = P(A) + P(B) – P(A </a:t>
            </a: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5"/>
          <p:cNvSpPr/>
          <p:nvPr/>
        </p:nvSpPr>
        <p:spPr>
          <a:xfrm>
            <a:off x="0" y="4876920"/>
            <a:ext cx="9144000" cy="211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to find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un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f a student chosen at random from this class taking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either Calc or Physics (or both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w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dd the individual probabilities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of the events ‘takes Calc’ and ‘takes Physics’, then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ubtract the intersection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(the overla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228600" y="274680"/>
            <a:ext cx="86868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TES:  For any 2 events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Content Placeholder 1"/>
          <p:cNvSpPr/>
          <p:nvPr/>
        </p:nvSpPr>
        <p:spPr>
          <a:xfrm>
            <a:off x="228600" y="914400"/>
            <a:ext cx="8686800" cy="1295280"/>
          </a:xfrm>
          <a:prstGeom prst="rect">
            <a:avLst/>
          </a:prstGeom>
          <a:solidFill>
            <a:srgbClr val="ccff33"/>
          </a:solidFill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ntersectio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– BOTH 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 = 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– 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Content Placeholder 1"/>
          <p:cNvSpPr/>
          <p:nvPr/>
        </p:nvSpPr>
        <p:spPr>
          <a:xfrm>
            <a:off x="228600" y="3863880"/>
            <a:ext cx="8686800" cy="12956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unio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happen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(or both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 = 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–  P(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520560" y="2271600"/>
            <a:ext cx="2133720" cy="114300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1" name="Object 9"/>
          <p:cNvGraphicFramePr/>
          <p:nvPr/>
        </p:nvGraphicFramePr>
        <p:xfrm>
          <a:off x="749160" y="2347920"/>
          <a:ext cx="167652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2347920"/>
                    <a:ext cx="16765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3" name="Rectangle 3"/>
          <p:cNvSpPr/>
          <p:nvPr/>
        </p:nvSpPr>
        <p:spPr>
          <a:xfrm>
            <a:off x="522360" y="5248440"/>
            <a:ext cx="2133360" cy="114300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4" name="Object 2"/>
          <p:cNvGraphicFramePr/>
          <p:nvPr/>
        </p:nvGraphicFramePr>
        <p:xfrm>
          <a:off x="674640" y="5248440"/>
          <a:ext cx="176364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640" y="5248440"/>
                    <a:ext cx="1763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6" name="Text Box 5"/>
          <p:cNvSpPr/>
          <p:nvPr/>
        </p:nvSpPr>
        <p:spPr>
          <a:xfrm>
            <a:off x="2655720" y="5248440"/>
            <a:ext cx="641196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.g. to find the </a:t>
            </a:r>
            <a:r>
              <a:rPr b="1" lang="en-NZ" sz="1800" spc="-1" strike="noStrike" u="sng">
                <a:solidFill>
                  <a:srgbClr val="000000"/>
                </a:solidFill>
                <a:uFillTx/>
                <a:latin typeface="Comic Sans MS"/>
              </a:rPr>
              <a:t>union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of a student chosen at random from this class taking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either Calc or Physics (or both)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, we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add the individual probabilities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of the events ‘takes Calc’ and ‘takes Physics’, then </a:t>
            </a: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subtract the intersection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(the overlap), so that we don’t count it tw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Text Box 5"/>
          <p:cNvSpPr/>
          <p:nvPr/>
        </p:nvSpPr>
        <p:spPr>
          <a:xfrm>
            <a:off x="2654280" y="2244600"/>
            <a:ext cx="64119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E.g. The probability that a randomly chosen member of this class takes both calculus </a:t>
            </a:r>
            <a:r>
              <a:rPr b="0" i="1" lang="en-NZ" sz="1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  phys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3"/>
          <p:cNvSpPr/>
          <p:nvPr/>
        </p:nvSpPr>
        <p:spPr>
          <a:xfrm>
            <a:off x="533520" y="19051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0" name="Object 9"/>
          <p:cNvGraphicFramePr/>
          <p:nvPr/>
        </p:nvGraphicFramePr>
        <p:xfrm>
          <a:off x="762120" y="1981080"/>
          <a:ext cx="731520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31520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2" name="Content Placeholder 1"/>
          <p:cNvSpPr/>
          <p:nvPr/>
        </p:nvSpPr>
        <p:spPr>
          <a:xfrm>
            <a:off x="4265640" y="331920"/>
            <a:ext cx="4764240" cy="10285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Do Sigma pg. 6 – Ex. 1.2 (ol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pg. 105 – Ex. 6.02 (new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*HW: Handout (contingency t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3: Mutually exclusive &amp; independent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440" y="1980720"/>
            <a:ext cx="84582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Mutually exclusiv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. Notes on mutual exclusivity &amp; indepen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2. Do Sigma (old) – Ex. 1.3 (pg.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Or Sigma (new) – Ex. 6.04 (pg. 1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3. HW: Probability assignment (due Thur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Mutually Exclusiv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6" name=""/>
          <p:cNvGraphicFramePr/>
          <p:nvPr/>
        </p:nvGraphicFramePr>
        <p:xfrm>
          <a:off x="457200" y="2087640"/>
          <a:ext cx="8229600" cy="4065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Ge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ake Geograp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`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Phys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ake Phys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h`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pic: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Introduction to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of Achievement Standard 906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olve straightforward problems involving 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4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xternally Ass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NuLake Pages 102 </a:t>
            </a:r>
            <a:r>
              <a:rPr b="0" i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3"/>
          <p:cNvSpPr/>
          <p:nvPr/>
        </p:nvSpPr>
        <p:spPr>
          <a:xfrm>
            <a:off x="838080" y="167652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Mutually Exclusiv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9" name="Object 11"/>
          <p:cNvGraphicFramePr/>
          <p:nvPr/>
        </p:nvGraphicFramePr>
        <p:xfrm>
          <a:off x="5334120" y="1828800"/>
          <a:ext cx="30448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4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1" name="Group 7"/>
          <p:cNvGrpSpPr/>
          <p:nvPr/>
        </p:nvGrpSpPr>
        <p:grpSpPr>
          <a:xfrm>
            <a:off x="1066680" y="1828800"/>
            <a:ext cx="3505320" cy="3276720"/>
            <a:chOff x="1066680" y="1828800"/>
            <a:chExt cx="3505320" cy="3276720"/>
          </a:xfrm>
        </p:grpSpPr>
        <p:graphicFrame>
          <p:nvGraphicFramePr>
            <p:cNvPr id="1402" name="Object 8"/>
            <p:cNvGraphicFramePr/>
            <p:nvPr/>
          </p:nvGraphicFramePr>
          <p:xfrm>
            <a:off x="1066680" y="1828800"/>
            <a:ext cx="2998800" cy="327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3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828800"/>
                      <a:ext cx="2998800" cy="32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4" name="Text Box 9"/>
            <p:cNvSpPr/>
            <p:nvPr/>
          </p:nvSpPr>
          <p:spPr>
            <a:xfrm>
              <a:off x="1685160" y="2485440"/>
              <a:ext cx="2310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Takes Geography(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Text Box 10"/>
            <p:cNvSpPr/>
            <p:nvPr/>
          </p:nvSpPr>
          <p:spPr>
            <a:xfrm>
              <a:off x="1785240" y="3534120"/>
              <a:ext cx="2786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Text Box 17"/>
          <p:cNvSpPr/>
          <p:nvPr/>
        </p:nvSpPr>
        <p:spPr>
          <a:xfrm>
            <a:off x="5867280" y="2362320"/>
            <a:ext cx="2438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0000"/>
                </a:solidFill>
                <a:latin typeface="Arial Unicode MS"/>
              </a:rPr>
              <a:t>Takes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0000"/>
                </a:solidFill>
                <a:latin typeface="Arial Unicode MS"/>
              </a:rPr>
              <a:t>(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8"/>
          <p:cNvSpPr/>
          <p:nvPr/>
        </p:nvSpPr>
        <p:spPr>
          <a:xfrm>
            <a:off x="685800" y="4267080"/>
            <a:ext cx="8229600" cy="1937880"/>
          </a:xfrm>
          <a:prstGeom prst="rect">
            <a:avLst/>
          </a:prstGeom>
          <a:solidFill>
            <a:srgbClr val="ffff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re is NO OVERLAP.  If one happens, the other can’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someone tak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Geo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then he can’t tak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hysic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someone tak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hysic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then he can’t tak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Geo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9"/>
          <p:cNvSpPr/>
          <p:nvPr/>
        </p:nvSpPr>
        <p:spPr>
          <a:xfrm>
            <a:off x="1981080" y="6205680"/>
            <a:ext cx="3886200" cy="459720"/>
          </a:xfrm>
          <a:prstGeom prst="rect">
            <a:avLst/>
          </a:prstGeom>
          <a:solidFill>
            <a:srgbClr val="ffffff"/>
          </a:solidFill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Geo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h)   =</a:t>
            </a:r>
            <a:r>
              <a:rPr b="1" lang="en-NZ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3"/>
          <p:cNvSpPr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Mutually Exclusiv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Object 11"/>
          <p:cNvGraphicFramePr/>
          <p:nvPr/>
        </p:nvGraphicFramePr>
        <p:xfrm>
          <a:off x="5334120" y="1752480"/>
          <a:ext cx="30448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752480"/>
                    <a:ext cx="3044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3" name="Group 7"/>
          <p:cNvGrpSpPr/>
          <p:nvPr/>
        </p:nvGrpSpPr>
        <p:grpSpPr>
          <a:xfrm>
            <a:off x="1066680" y="1752480"/>
            <a:ext cx="3505320" cy="3276720"/>
            <a:chOff x="1066680" y="1752480"/>
            <a:chExt cx="3505320" cy="3276720"/>
          </a:xfrm>
        </p:grpSpPr>
        <p:graphicFrame>
          <p:nvGraphicFramePr>
            <p:cNvPr id="1414" name="Object 8"/>
            <p:cNvGraphicFramePr/>
            <p:nvPr/>
          </p:nvGraphicFramePr>
          <p:xfrm>
            <a:off x="1066680" y="1752480"/>
            <a:ext cx="2998800" cy="327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1752480"/>
                      <a:ext cx="2998800" cy="32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6" name="Text Box 9"/>
            <p:cNvSpPr/>
            <p:nvPr/>
          </p:nvSpPr>
          <p:spPr>
            <a:xfrm>
              <a:off x="1685160" y="2409120"/>
              <a:ext cx="23108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Takes Geography(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10"/>
            <p:cNvSpPr/>
            <p:nvPr/>
          </p:nvSpPr>
          <p:spPr>
            <a:xfrm>
              <a:off x="1785240" y="3457800"/>
              <a:ext cx="2786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Text Box 17"/>
          <p:cNvSpPr/>
          <p:nvPr/>
        </p:nvSpPr>
        <p:spPr>
          <a:xfrm>
            <a:off x="5867280" y="2286000"/>
            <a:ext cx="2438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0000"/>
                </a:solidFill>
                <a:latin typeface="Arial Unicode MS"/>
              </a:rPr>
              <a:t>Takes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990000"/>
                </a:solidFill>
                <a:latin typeface="Arial Unicode MS"/>
              </a:rPr>
              <a:t>(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18"/>
          <p:cNvSpPr/>
          <p:nvPr/>
        </p:nvSpPr>
        <p:spPr>
          <a:xfrm>
            <a:off x="685800" y="4191120"/>
            <a:ext cx="8229600" cy="1937880"/>
          </a:xfrm>
          <a:prstGeom prst="rect">
            <a:avLst/>
          </a:prstGeom>
          <a:solidFill>
            <a:srgbClr val="ffffff"/>
          </a:solidFill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here is NO OVERLAP.  If one happens, the other can’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someone tak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Geo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then he can’t tak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hysic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someone take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hysic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 then he can’t tak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Geo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19"/>
          <p:cNvSpPr/>
          <p:nvPr/>
        </p:nvSpPr>
        <p:spPr>
          <a:xfrm>
            <a:off x="2006640" y="6129360"/>
            <a:ext cx="5257800" cy="581400"/>
          </a:xfrm>
          <a:prstGeom prst="rect">
            <a:avLst/>
          </a:prstGeom>
          <a:solidFill>
            <a:srgbClr val="ffffff"/>
          </a:solidFill>
          <a:ln w="69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o P(Geo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h)   =</a:t>
            </a:r>
            <a:r>
              <a:rPr b="1" lang="en-NZ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NZ" sz="32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Mutually Exclusive Events (n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two events are Mutually Exclusive, it means tha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if one happens, the other canno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So they cannot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both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t STC in Year 13, you cannot take both Geography and Phys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two events “Takes 13Geo” and “Takes 13Physics” ar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Mutually Exclusiv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Test whether 2 events are mutually exclusive by finding whether or not there is any intersection between them P(A</a:t>
            </a:r>
            <a:r>
              <a:rPr b="1" lang="en-NZ" sz="2400" spc="-1" strike="noStrike">
                <a:solidFill>
                  <a:srgbClr val="0000ff"/>
                </a:solidFill>
                <a:latin typeface="Symbol"/>
                <a:ea typeface="Symbol"/>
              </a:rPr>
              <a:t>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B).  Can they </a:t>
            </a:r>
            <a:r>
              <a:rPr b="0" i="1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both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re mutually exclusive if and only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1"/>
          <p:cNvSpPr/>
          <p:nvPr/>
        </p:nvSpPr>
        <p:spPr>
          <a:xfrm>
            <a:off x="-17640" y="5486400"/>
            <a:ext cx="9144000" cy="91440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75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151920" y="1218960"/>
            <a:ext cx="899172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151920" y="1218960"/>
            <a:ext cx="899172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f two events are Independent, it means tha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event that one has occurred does NOT alter the probability of the other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Examples of two events that are in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Examples of two events that are </a:t>
            </a:r>
            <a:r>
              <a:rPr b="1" i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not</a:t>
            </a:r>
            <a:r>
              <a:rPr b="1" lang="en-NZ" sz="2400" spc="-1" strike="noStrike" u="sng">
                <a:solidFill>
                  <a:srgbClr val="0000ff"/>
                </a:solidFill>
                <a:uFillTx/>
                <a:latin typeface="Comic Sans MS"/>
              </a:rPr>
              <a:t> independ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How to test for independ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ny 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are independent if and only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 =  P(A)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f 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  ≠  P(A)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(B), then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nd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are NO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ork – finish for H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. Do Sigma pg. 9 – Ex. 1.3 (old v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pg. 111 – Ex. 6.04 (new vers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re combined event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worksheet of past NCEA qs (involves unions, intersections, mutually exclusive events and th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‘neithe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’ event – using Venn Diagrams and Contingency Tab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4: Tree diagram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Use tree diagrams to calculate prob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STARTER:  The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“Neither”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o NuLake:  Tree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Pg. 115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120  - Q16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26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Complete for H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‘</a:t>
            </a:r>
            <a:r>
              <a:rPr b="0" i="1" lang="en-NZ" sz="4400" spc="-1" strike="noStrike">
                <a:solidFill>
                  <a:srgbClr val="000000"/>
                </a:solidFill>
                <a:latin typeface="Arial"/>
              </a:rPr>
              <a:t>Neither’ </a:t>
            </a: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"/>
          <p:cNvSpPr txBox="1"/>
          <p:nvPr/>
        </p:nvSpPr>
        <p:spPr>
          <a:xfrm>
            <a:off x="0" y="228600"/>
            <a:ext cx="9144000" cy="63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006 NCEA exam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wa asked 150 randomly chosen students what programmes they watched last night. 90 watch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hortland Stre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50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Z Id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30 had watched bo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probability that a randomly chosen student had watched neith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hortland Stre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o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Z Id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1: Sample space and combined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685800" y="1981080"/>
            <a:ext cx="77724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Sample spac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Complementary eve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The intersection between 2 eve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The union between 2 event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900" spc="-1" strike="noStrike">
                <a:solidFill>
                  <a:srgbClr val="000000"/>
                </a:solidFill>
                <a:latin typeface="Times New Roman"/>
              </a:rPr>
              <a:t>Use new edition of Sigma (photocopy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Do Sigma Ex. 6.02 (p105) – Venn Diagram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Ex. 6.03 (p108) Q2 &amp; 3 – Contingency Tab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Rectangle 3" descr=""/>
          <p:cNvPicPr/>
          <p:nvPr/>
        </p:nvPicPr>
        <p:blipFill>
          <a:blip r:embed="rId1"/>
          <a:stretch/>
        </p:blipFill>
        <p:spPr>
          <a:xfrm>
            <a:off x="-133200" y="189000"/>
            <a:ext cx="9283680" cy="6675480"/>
          </a:xfrm>
          <a:prstGeom prst="rect">
            <a:avLst/>
          </a:prstGeom>
          <a:ln w="0">
            <a:noFill/>
          </a:ln>
        </p:spPr>
      </p:pic>
      <p:sp>
        <p:nvSpPr>
          <p:cNvPr id="1437" name="TextBox 1"/>
          <p:cNvSpPr/>
          <p:nvPr/>
        </p:nvSpPr>
        <p:spPr>
          <a:xfrm>
            <a:off x="5562720" y="304920"/>
            <a:ext cx="3352680" cy="91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Tree Diagrams – Do NuLake pg. 115 </a:t>
            </a: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Text Box 10"/>
          <p:cNvSpPr/>
          <p:nvPr/>
        </p:nvSpPr>
        <p:spPr>
          <a:xfrm>
            <a:off x="533520" y="1447920"/>
            <a:ext cx="8076960" cy="4957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9" name="Object 8"/>
          <p:cNvGraphicFramePr/>
          <p:nvPr/>
        </p:nvGraphicFramePr>
        <p:xfrm>
          <a:off x="1371600" y="1828800"/>
          <a:ext cx="685800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858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Text Box 5"/>
          <p:cNvSpPr/>
          <p:nvPr/>
        </p:nvSpPr>
        <p:spPr>
          <a:xfrm>
            <a:off x="3733920" y="33354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6"/>
          <p:cNvSpPr/>
          <p:nvPr/>
        </p:nvSpPr>
        <p:spPr>
          <a:xfrm>
            <a:off x="0" y="228600"/>
            <a:ext cx="91440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 u="sng">
                <a:solidFill>
                  <a:srgbClr val="000000"/>
                </a:solidFill>
                <a:uFillTx/>
                <a:latin typeface="Comic Sans MS"/>
              </a:rPr>
              <a:t>The ‘NEITHER’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11"/>
          <p:cNvSpPr/>
          <p:nvPr/>
        </p:nvSpPr>
        <p:spPr>
          <a:xfrm>
            <a:off x="0" y="4211640"/>
            <a:ext cx="9144000" cy="3146040"/>
          </a:xfrm>
          <a:prstGeom prst="rect">
            <a:avLst/>
          </a:prstGeom>
          <a:solidFill>
            <a:srgbClr val="ccffff"/>
          </a:solidFill>
          <a:ln w="66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5"/>
          <p:cNvSpPr/>
          <p:nvPr/>
        </p:nvSpPr>
        <p:spPr>
          <a:xfrm>
            <a:off x="609480" y="1600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`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∩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`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Text Box 10"/>
          <p:cNvSpPr/>
          <p:nvPr/>
        </p:nvSpPr>
        <p:spPr>
          <a:xfrm>
            <a:off x="533520" y="1447920"/>
            <a:ext cx="8076960" cy="4957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6" name="Object 8"/>
          <p:cNvGraphicFramePr/>
          <p:nvPr/>
        </p:nvGraphicFramePr>
        <p:xfrm>
          <a:off x="1371600" y="1828800"/>
          <a:ext cx="6858000" cy="41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6858000" cy="41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8" name="Text Box 5"/>
          <p:cNvSpPr/>
          <p:nvPr/>
        </p:nvSpPr>
        <p:spPr>
          <a:xfrm>
            <a:off x="3733920" y="33354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6"/>
          <p:cNvSpPr/>
          <p:nvPr/>
        </p:nvSpPr>
        <p:spPr>
          <a:xfrm>
            <a:off x="0" y="228600"/>
            <a:ext cx="91440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 u="sng">
                <a:solidFill>
                  <a:srgbClr val="000000"/>
                </a:solidFill>
                <a:uFillTx/>
                <a:latin typeface="Comic Sans MS"/>
              </a:rPr>
              <a:t>The ‘NEITHER’ ev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11"/>
          <p:cNvSpPr/>
          <p:nvPr/>
        </p:nvSpPr>
        <p:spPr>
          <a:xfrm>
            <a:off x="0" y="4211640"/>
            <a:ext cx="9144000" cy="2643480"/>
          </a:xfrm>
          <a:prstGeom prst="rect">
            <a:avLst/>
          </a:prstGeom>
          <a:solidFill>
            <a:srgbClr val="ccffff"/>
          </a:solidFill>
          <a:ln w="66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Nor”  =  1- “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Neither A nor B)    =   1 – P(A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is can be easily observed on a contingency table (see previous examp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Neither A nor B) is written as P(A`</a:t>
            </a:r>
            <a:r>
              <a:rPr b="1" lang="en-N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`), 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oesn’t occur  AND 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esn’t occ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5"/>
          <p:cNvSpPr/>
          <p:nvPr/>
        </p:nvSpPr>
        <p:spPr>
          <a:xfrm>
            <a:off x="609480" y="1600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`</a:t>
            </a:r>
            <a:r>
              <a:rPr b="1" lang="el-G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∩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`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17480" y="2282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5: Tree diagram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304560" y="1218960"/>
            <a:ext cx="883908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ractice and develop more confidence with using Tree Diagrams to solve problems involving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Do Sigma pg. 12 – Ex. 1.4 (old version): Q1-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or, in new edition, pg. 116 – Ex .6.0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 u="sng">
                <a:solidFill>
                  <a:srgbClr val="000000"/>
                </a:solidFill>
                <a:uFillTx/>
                <a:latin typeface="Times New Roman"/>
              </a:rPr>
              <a:t>* Extension people: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Do new edition – pg. 116 – Ex. 6.05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Do Q3</a:t>
            </a:r>
            <a:r>
              <a:rPr b="0" lang="en-N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14, 15(</a:t>
            </a:r>
            <a:r>
              <a:rPr b="0" i="1" lang="en-NZ" sz="2900" spc="-1" strike="noStrike">
                <a:solidFill>
                  <a:srgbClr val="000000"/>
                </a:solidFill>
                <a:latin typeface="Times New Roman"/>
              </a:rPr>
              <a:t>Exc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), then read </a:t>
            </a:r>
            <a:r>
              <a:rPr b="0" i="1" lang="en-NZ" sz="2900" spc="-1" strike="noStrike">
                <a:solidFill>
                  <a:srgbClr val="000000"/>
                </a:solidFill>
                <a:latin typeface="Times New Roman"/>
              </a:rPr>
              <a:t>infinite probabilities 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example at bottom of p115, then do Q16-20 (all </a:t>
            </a:r>
            <a:r>
              <a:rPr b="0" i="1" lang="en-NZ" sz="2900" spc="-1" strike="noStrike">
                <a:solidFill>
                  <a:srgbClr val="000000"/>
                </a:solidFill>
                <a:latin typeface="Times New Roman"/>
              </a:rPr>
              <a:t>Exc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6: Conditional probability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685800" y="1981080"/>
            <a:ext cx="77724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tro to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Introduction to Conditional Probability and its notation and 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Link to Tree Dia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Do NuLake pg. 123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</a:rPr>
              <a:t>Or Sigma Ex. 6.01, 6.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0" y="1676520"/>
            <a:ext cx="914400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onditional probability means the probability of a particular event occurring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GIVEN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that some other event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has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occur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99"/>
                </a:solidFill>
                <a:latin typeface="Comic Sans MS"/>
              </a:rPr>
              <a:t>E.g. the probability that a randomly chosen person in this class has a car, GIVEN that we </a:t>
            </a:r>
            <a:r>
              <a:rPr b="0" i="1" lang="en-NZ" sz="2000" spc="-1" strike="noStrike">
                <a:solidFill>
                  <a:srgbClr val="000099"/>
                </a:solidFill>
                <a:latin typeface="Comic Sans MS"/>
              </a:rPr>
              <a:t>know</a:t>
            </a:r>
            <a:r>
              <a:rPr b="0" lang="en-NZ" sz="2000" spc="-1" strike="noStrike">
                <a:solidFill>
                  <a:srgbClr val="000099"/>
                </a:solidFill>
                <a:latin typeface="Comic Sans MS"/>
              </a:rPr>
              <a:t>  he has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nce we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kn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a particular event has occurred ou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ample space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of possibilities is reduced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 IN CLASS TODAY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Q. Stand up if you have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Q. Of those standing, RAISE YOUR HAND if you ALSO own a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 IN CLASS TODAY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Q. Stand up if you have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Q. Of those standing, RAISE YOUR HAND if you ALSO own a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probability that a randomly selected member of this class has a car GIVEN that he has a job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= 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  <a:ea typeface="Arial Unicode MS"/>
              </a:rPr>
              <a:t>Number standing up with hands up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Total number standing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 IN CLASS TODAY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Q. Stand up if you have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Q. Of those standing, RAISE YOUR HAND if you ALSO own a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probability that a randomly selected member of this class has a car GIVEN that he has a job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= 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  <a:ea typeface="Arial Unicode MS"/>
              </a:rPr>
              <a:t>Number standing up with hands up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=  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(  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  <a:ea typeface="Arial Unicode MS"/>
              </a:rPr>
              <a:t>?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Total number standing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  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(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?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UMBER IN CLASS TODAY = 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Q. Stand up if you have a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Q. Of those standing, RAISE YOUR HAND if you ALSO own a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n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</a:rPr>
              <a:t>Job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e probability that a randomly selected member of this class has a car GIVEN that he has a job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Car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Jo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= 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  <a:ea typeface="Arial Unicode MS"/>
              </a:rPr>
              <a:t>Number standing up with hands up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=   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(</a:t>
            </a:r>
            <a:r>
              <a:rPr b="1" lang="en-NZ" sz="2000" spc="-1" strike="noStrike" u="sng">
                <a:solidFill>
                  <a:srgbClr val="0000ff"/>
                </a:solidFill>
                <a:uFillTx/>
                <a:latin typeface="Comic Sans MS"/>
              </a:rPr>
              <a:t>Job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000" spc="-1" strike="noStrike" u="sng">
                <a:solidFill>
                  <a:srgbClr val="cc0099"/>
                </a:solidFill>
                <a:uFillTx/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ff0000"/>
                </a:solidFill>
                <a:uFillTx/>
                <a:latin typeface="Comic Sans MS"/>
              </a:rPr>
              <a:t>Car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Total number standing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	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 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(</a:t>
            </a:r>
            <a:r>
              <a:rPr b="1" lang="en-NZ" sz="2000" spc="-1" strike="noStrike">
                <a:solidFill>
                  <a:srgbClr val="0000ff"/>
                </a:solidFill>
                <a:latin typeface="Comic Sans MS"/>
                <a:ea typeface="Arial Unicode MS"/>
              </a:rPr>
              <a:t>Jo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1"/>
          <p:cNvSpPr/>
          <p:nvPr/>
        </p:nvSpPr>
        <p:spPr>
          <a:xfrm>
            <a:off x="5562720" y="4191120"/>
            <a:ext cx="3276360" cy="642600"/>
          </a:xfrm>
          <a:prstGeom prst="rect">
            <a:avLst/>
          </a:prstGeom>
          <a:solidFill>
            <a:srgbClr val="ffff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how this information on a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contingency tabl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6"/>
          <p:cNvSpPr/>
          <p:nvPr/>
        </p:nvSpPr>
        <p:spPr>
          <a:xfrm>
            <a:off x="149400" y="2819520"/>
            <a:ext cx="8839080" cy="4597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HAVE A GO:   Do NuLake pg. 123 - JUST Question 29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Basic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Sample space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 set of all possible outcomes of an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Eve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:  any subset of sampl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.g.  A video game involves a player having 3 shots at a target.  If he gets 2 or more hits, he gets an extra bonus shot, and if after that he has 3 or more hits, he gets a final sh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how the possible outcomes on 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ree diagram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ist the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sample spac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Text Box 9"/>
          <p:cNvSpPr/>
          <p:nvPr/>
        </p:nvSpPr>
        <p:spPr>
          <a:xfrm>
            <a:off x="380880" y="1447920"/>
            <a:ext cx="8534520" cy="4957920"/>
          </a:xfrm>
          <a:prstGeom prst="rect">
            <a:avLst/>
          </a:prstGeom>
          <a:solidFill>
            <a:srgbClr val="ffffff"/>
          </a:solidFill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0" name="Object 3"/>
          <p:cNvGraphicFramePr/>
          <p:nvPr/>
        </p:nvGraphicFramePr>
        <p:xfrm>
          <a:off x="1066680" y="2133720"/>
          <a:ext cx="678204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678204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Text Box 6"/>
          <p:cNvSpPr/>
          <p:nvPr/>
        </p:nvSpPr>
        <p:spPr>
          <a:xfrm>
            <a:off x="1905120" y="3352680"/>
            <a:ext cx="190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`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7"/>
          <p:cNvSpPr/>
          <p:nvPr/>
        </p:nvSpPr>
        <p:spPr>
          <a:xfrm>
            <a:off x="5486400" y="342900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`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8"/>
          <p:cNvSpPr/>
          <p:nvPr/>
        </p:nvSpPr>
        <p:spPr>
          <a:xfrm>
            <a:off x="3505320" y="3809880"/>
            <a:ext cx="190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0"/>
          <p:cNvSpPr/>
          <p:nvPr/>
        </p:nvSpPr>
        <p:spPr>
          <a:xfrm>
            <a:off x="38088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’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8"/>
          <p:cNvSpPr/>
          <p:nvPr/>
        </p:nvSpPr>
        <p:spPr>
          <a:xfrm>
            <a:off x="380880" y="1447920"/>
            <a:ext cx="8534520" cy="4957920"/>
          </a:xfrm>
          <a:prstGeom prst="rect">
            <a:avLst/>
          </a:prstGeom>
          <a:solidFill>
            <a:srgbClr val="ffffff"/>
          </a:solidFill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7" name="Object 7"/>
          <p:cNvGraphicFramePr/>
          <p:nvPr/>
        </p:nvGraphicFramePr>
        <p:xfrm>
          <a:off x="1066680" y="1752480"/>
          <a:ext cx="45198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4519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9" name="Text Box 4"/>
          <p:cNvSpPr/>
          <p:nvPr/>
        </p:nvSpPr>
        <p:spPr>
          <a:xfrm>
            <a:off x="1752480" y="3352680"/>
            <a:ext cx="190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`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6"/>
          <p:cNvSpPr/>
          <p:nvPr/>
        </p:nvSpPr>
        <p:spPr>
          <a:xfrm>
            <a:off x="3886200" y="33526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9"/>
          <p:cNvSpPr/>
          <p:nvPr/>
        </p:nvSpPr>
        <p:spPr>
          <a:xfrm>
            <a:off x="5943600" y="18288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P(A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3" name="Object 10"/>
          <p:cNvGraphicFramePr/>
          <p:nvPr/>
        </p:nvGraphicFramePr>
        <p:xfrm>
          <a:off x="1122480" y="1676520"/>
          <a:ext cx="42307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1676520"/>
                    <a:ext cx="42307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5" name="Text Box 4"/>
          <p:cNvSpPr/>
          <p:nvPr/>
        </p:nvSpPr>
        <p:spPr>
          <a:xfrm>
            <a:off x="1981080" y="23623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We KNOW Event A has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7" name="Object 2"/>
          <p:cNvGraphicFramePr/>
          <p:nvPr/>
        </p:nvGraphicFramePr>
        <p:xfrm>
          <a:off x="1447920" y="2332080"/>
          <a:ext cx="275436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32080"/>
                    <a:ext cx="27543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9" name="Object 6"/>
          <p:cNvGraphicFramePr/>
          <p:nvPr/>
        </p:nvGraphicFramePr>
        <p:xfrm>
          <a:off x="1371600" y="1600200"/>
          <a:ext cx="396252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600200"/>
                    <a:ext cx="39625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Text Box 5"/>
          <p:cNvSpPr/>
          <p:nvPr/>
        </p:nvSpPr>
        <p:spPr>
          <a:xfrm>
            <a:off x="4114800" y="3733920"/>
            <a:ext cx="1400040" cy="459720"/>
          </a:xfrm>
          <a:prstGeom prst="rect">
            <a:avLst/>
          </a:prstGeom>
          <a:solidFill>
            <a:srgbClr val="ccff33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4"/>
          <p:cNvSpPr/>
          <p:nvPr/>
        </p:nvSpPr>
        <p:spPr>
          <a:xfrm>
            <a:off x="1981080" y="228600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We KNOW Event A has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4" name="Object 2"/>
          <p:cNvGraphicFramePr/>
          <p:nvPr/>
        </p:nvGraphicFramePr>
        <p:xfrm>
          <a:off x="457200" y="1951200"/>
          <a:ext cx="2436840" cy="26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51200"/>
                    <a:ext cx="2436840" cy="26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6" name="Object 6"/>
          <p:cNvGraphicFramePr/>
          <p:nvPr/>
        </p:nvGraphicFramePr>
        <p:xfrm>
          <a:off x="0" y="1219320"/>
          <a:ext cx="38862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19320"/>
                    <a:ext cx="3886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8" name="Text Box 5"/>
          <p:cNvSpPr/>
          <p:nvPr/>
        </p:nvSpPr>
        <p:spPr>
          <a:xfrm>
            <a:off x="2590920" y="3048120"/>
            <a:ext cx="1314360" cy="414000"/>
          </a:xfrm>
          <a:prstGeom prst="rect">
            <a:avLst/>
          </a:prstGeom>
          <a:solidFill>
            <a:srgbClr val="ccff33"/>
          </a:solidFill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lang="en-NZ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r>
              <a:rPr b="1" lang="en-NZ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ᅵ</a:t>
            </a:r>
            <a:r>
              <a:rPr b="1" lang="en-NZ" sz="2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990720" y="1752480"/>
            <a:ext cx="19620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mic Sans MS"/>
              </a:rPr>
              <a:t>We KNOW Event A has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4191120" y="1295280"/>
            <a:ext cx="49528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conditional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ccurs if we already know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s happened is written as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P(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ᅵ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We say “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 probability of B, </a:t>
            </a:r>
            <a:r>
              <a:rPr b="1" i="1" lang="en-NZ" sz="24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given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5"/>
          <p:cNvSpPr/>
          <p:nvPr/>
        </p:nvSpPr>
        <p:spPr>
          <a:xfrm>
            <a:off x="4495680" y="4267080"/>
            <a:ext cx="4419720" cy="8254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3"/>
          <p:cNvSpPr/>
          <p:nvPr/>
        </p:nvSpPr>
        <p:spPr>
          <a:xfrm>
            <a:off x="0" y="525780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4"/>
          <p:cNvSpPr/>
          <p:nvPr/>
        </p:nvSpPr>
        <p:spPr>
          <a:xfrm>
            <a:off x="450720" y="5796000"/>
            <a:ext cx="8382240" cy="70380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omething to pond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If A and B ar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, then P(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A) = P(___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300" spc="-1" strike="noStrike" u="sng">
                <a:solidFill>
                  <a:srgbClr val="000000"/>
                </a:solidFill>
                <a:uFillTx/>
                <a:latin typeface="Comic Sans MS"/>
              </a:rPr>
              <a:t>Conditional Probability on a Venn diagra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6"/>
          <p:cNvSpPr/>
          <p:nvPr/>
        </p:nvSpPr>
        <p:spPr>
          <a:xfrm>
            <a:off x="609480" y="341280"/>
            <a:ext cx="8382240" cy="119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HAVE A GO:   Do NuLake pg. 124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You MUST do: Q30-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* Extension: Q4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7: Conditional probability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33520" y="19807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atch youtube clip on conditional probability:  </a:t>
            </a:r>
            <a:r>
              <a:rPr b="1" lang="en-NZ" sz="2400" spc="-1" strike="noStrike">
                <a:solidFill>
                  <a:srgbClr val="0000ff"/>
                </a:solidFill>
                <a:latin typeface="Comic Sans MS"/>
              </a:rPr>
              <a:t>http://www.youtube.com/watch?v=4PwnvqGE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Link with tree-diagrams.  Look at one together.  Which probabilities on the diagram are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conditional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probabil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Practice solving problems involving conditional probability using Venn dia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Go over HW qs from NuLake &amp; finish these off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2. Faster people move on to NuLake pages 130</a:t>
            </a:r>
            <a:r>
              <a:rPr b="0" lang="en-N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900" spc="-1" strike="noStrike">
                <a:solidFill>
                  <a:srgbClr val="000000"/>
                </a:solidFill>
                <a:latin typeface="Times New Roman"/>
              </a:rPr>
              <a:t>134.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Lesson 8 </a:t>
            </a:r>
            <a:r>
              <a:rPr b="0" i="1" lang="en-NZ" sz="4400" spc="-1" strike="noStrike">
                <a:solidFill>
                  <a:srgbClr val="000000"/>
                </a:solidFill>
                <a:latin typeface="Times New Roman"/>
              </a:rPr>
              <a:t>(if time)</a:t>
            </a: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: Conditional probability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533520" y="1981080"/>
            <a:ext cx="82296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roblem-solving:  The Base Rate Fella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Last lesson to practice conditional probability problems and sort out any difficul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.) Finish NuLake pages 130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2.) Sigma (new): Pg. 176 – Ex. 9.04  +  answer qs for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Unlawful Activity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investig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Extension: 2010 NCEA exam (AS90643) – final question (hard Venn diagram probl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151920" y="1142640"/>
            <a:ext cx="89917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certain town there are two types of taxis; </a:t>
            </a:r>
            <a:r>
              <a:rPr b="1" lang="en-NZ" sz="2400" spc="-1" strike="noStrike">
                <a:solidFill>
                  <a:srgbClr val="0033cc"/>
                </a:solidFill>
                <a:latin typeface="Comic Sans MS"/>
              </a:rPr>
              <a:t>90% are Blue Cabs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10% are Red Cab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certain town there are two types of taxis; </a:t>
            </a:r>
            <a:r>
              <a:rPr b="1" lang="en-NZ" sz="2400" spc="-1" strike="noStrike">
                <a:solidFill>
                  <a:srgbClr val="0033cc"/>
                </a:solidFill>
                <a:latin typeface="Comic Sans MS"/>
              </a:rPr>
              <a:t>90% are Blue Cabs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10% are Red Cab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A taxi is involved in a hit-and-run acc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opulation:  Year 13 SAM class at STC</a:t>
            </a:r>
            <a:br>
              <a:rPr sz="3200"/>
            </a:b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DRAW ON BOARD ALONGSIDE PROJECT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9" name=""/>
          <p:cNvGraphicFramePr/>
          <p:nvPr/>
        </p:nvGraphicFramePr>
        <p:xfrm>
          <a:off x="457200" y="1981080"/>
          <a:ext cx="8229600" cy="3627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Calcu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ake Cal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`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Phys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take physics (</a:t>
                      </a: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`</a:t>
                      </a: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151920" y="1142640"/>
            <a:ext cx="89917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certain town there are two types of taxis; </a:t>
            </a:r>
            <a:r>
              <a:rPr b="1" lang="en-NZ" sz="2400" spc="-1" strike="noStrike">
                <a:solidFill>
                  <a:srgbClr val="0033cc"/>
                </a:solidFill>
                <a:latin typeface="Comic Sans MS"/>
              </a:rPr>
              <a:t>90% are Blue Cabs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10% are Red Cab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A taxi is involved in a hit-and-run accident.  One witness says it was a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d Ca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court tests this witness’s ability to distinguish between </a:t>
            </a:r>
            <a:r>
              <a:rPr b="1" lang="en-NZ" sz="2400" spc="-1" strike="noStrike">
                <a:solidFill>
                  <a:srgbClr val="0000cc"/>
                </a:solidFill>
                <a:latin typeface="Comic Sans MS"/>
              </a:rPr>
              <a:t>Blue</a:t>
            </a:r>
            <a:r>
              <a:rPr b="0" lang="en-NZ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NZ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bs under identical conditions and concludes that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witness is righ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80%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of the tim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Question: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What is the probability that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the taxi was a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Red Cab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Lawyers, judges, doctors and even maths teachers have claimed that the answer is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et this i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correc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base-rate fell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51920" y="1142640"/>
            <a:ext cx="89917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anchor="t">
            <a:normAutofit/>
          </a:bodyPr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 a certain town there are two types of taxis; </a:t>
            </a:r>
            <a:r>
              <a:rPr b="1" lang="en-NZ" sz="2400" spc="-1" strike="noStrike">
                <a:solidFill>
                  <a:srgbClr val="0033cc"/>
                </a:solidFill>
                <a:latin typeface="Comic Sans MS"/>
              </a:rPr>
              <a:t>90% are Blue Cabs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10% are Red Cabs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A taxi is involved in a hit-and-run accident.  One witness says it was a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d Ca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court tests this witness’s ability to distinguish between </a:t>
            </a:r>
            <a:r>
              <a:rPr b="1" lang="en-NZ" sz="2400" spc="-1" strike="noStrike">
                <a:solidFill>
                  <a:srgbClr val="0000cc"/>
                </a:solidFill>
                <a:latin typeface="Comic Sans MS"/>
              </a:rPr>
              <a:t>Blue</a:t>
            </a:r>
            <a:r>
              <a:rPr b="0" lang="en-NZ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NZ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bs under identical conditions and concludes that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the witness is righ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80%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 of the time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Question: 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What is the probability that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the taxi was a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Red Cab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Lawyers, judges, doctors and even maths teachers have claimed that the answer is 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Yet this i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ncorrec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.  Can you calculate the true proba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can you explain </a:t>
            </a:r>
            <a:r>
              <a:rPr b="0" i="1" lang="en-NZ" sz="2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80% is wr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5"/>
          <p:cNvSpPr/>
          <p:nvPr/>
        </p:nvSpPr>
        <p:spPr>
          <a:xfrm>
            <a:off x="1371600" y="4572000"/>
            <a:ext cx="7543800" cy="642600"/>
          </a:xfrm>
          <a:prstGeom prst="rect">
            <a:avLst/>
          </a:prstGeom>
          <a:solidFill>
            <a:srgbClr val="9ed3d7"/>
          </a:solidFill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HINT: Draw a probability t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6"/>
          <p:cNvSpPr/>
          <p:nvPr/>
        </p:nvSpPr>
        <p:spPr>
          <a:xfrm>
            <a:off x="2057400" y="4572000"/>
            <a:ext cx="6019920" cy="6426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POILER WARNING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4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OK.  The answer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8"/>
          <p:cNvSpPr/>
          <p:nvPr/>
        </p:nvSpPr>
        <p:spPr>
          <a:xfrm>
            <a:off x="5486400" y="4495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0.3077(4s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9"/>
          <p:cNvSpPr/>
          <p:nvPr/>
        </p:nvSpPr>
        <p:spPr>
          <a:xfrm>
            <a:off x="152280" y="5029200"/>
            <a:ext cx="861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So it’s actually more likely that the witness got it wrong and the taxi was bl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Use a probability tree or otherwise to show that this is the correct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10"/>
          <p:cNvSpPr/>
          <p:nvPr/>
        </p:nvSpPr>
        <p:spPr>
          <a:xfrm>
            <a:off x="685800" y="838080"/>
            <a:ext cx="769608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Do Sigma (old version) pg. 19 – Ex. 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Or new version pg. 176 – Ex. 9.04 (M&amp;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8" dur="2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Times New Roman"/>
              </a:rPr>
              <a:t>Extra for experts lesson – Bayes’ Theor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Practice solving problems involving conditional prob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991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Exploring Conditional Probability – swine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t one stage last year, Ministry of Health figures indicate that 2% of Christchurch high school students had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 particular medical test could correctly identify whether a patient had Swine Flu 90% of the ti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991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Exploring Conditional Probability – swine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t one stage last year, Ministry of Health figures indicate that 2% of Christchurch high school students had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t the time, health clinics conducted a test that accurately detected the virus for 90% of people with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However the test also indicated the disease for 12.5% of people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without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it (the false positive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Draw a tree diagram showing 2 variab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hether a randomly chosen high school student actually has swine flu (F) or not (F`), and for each of these scenario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hether the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test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says that they have it (T) or not (T`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t one stage last year, Ministry of Health figures indicate that 2% of Christchurch high school students had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A particular medical test could correctly identify whether a patient had Swine Flu 90% of the time. </a:t>
            </a:r>
            <a:r>
              <a:rPr b="0" lang="en-NZ" sz="1800" spc="-1" strike="noStrike">
                <a:solidFill>
                  <a:srgbClr val="000000"/>
                </a:solidFill>
                <a:latin typeface="Comic Sans MS"/>
              </a:rPr>
              <a:t>This means that 90% of people with Swine Flu would test positive for it, while 90% of people without Swine Flu would test negative fo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Draw a tree diagram showing 2 variabl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hether a randomly chosen high school student actually has swine flu (F) or not (F`), and for each of these scenarios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hether the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test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says that they have it (T) or not (T`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19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05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9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19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5"/>
          <p:cNvSpPr/>
          <p:nvPr/>
        </p:nvSpPr>
        <p:spPr>
          <a:xfrm>
            <a:off x="3886200" y="220968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5"/>
          <p:cNvSpPr/>
          <p:nvPr/>
        </p:nvSpPr>
        <p:spPr>
          <a:xfrm>
            <a:off x="3809880" y="213372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5"/>
          <p:cNvSpPr/>
          <p:nvPr/>
        </p:nvSpPr>
        <p:spPr>
          <a:xfrm>
            <a:off x="3809880" y="213372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Venn Diagrams – represent events within a Sample Space 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2" name="Object 7"/>
          <p:cNvGraphicFramePr/>
          <p:nvPr/>
        </p:nvGraphicFramePr>
        <p:xfrm>
          <a:off x="1050840" y="1752480"/>
          <a:ext cx="38401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752480"/>
                    <a:ext cx="38401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4" name="Rectangle 6"/>
          <p:cNvSpPr/>
          <p:nvPr/>
        </p:nvSpPr>
        <p:spPr>
          <a:xfrm>
            <a:off x="2819520" y="2362320"/>
            <a:ext cx="35049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0"/>
          <p:cNvSpPr/>
          <p:nvPr/>
        </p:nvSpPr>
        <p:spPr>
          <a:xfrm>
            <a:off x="1676520" y="3124080"/>
            <a:ext cx="244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Takes Cal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C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Box 6"/>
          <p:cNvSpPr/>
          <p:nvPr/>
        </p:nvSpPr>
        <p:spPr>
          <a:xfrm>
            <a:off x="1523880" y="1752480"/>
            <a:ext cx="6553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Sample Space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– the set of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all possible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All possible outcomes – probabilities add to 1 (i.e. 100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10"/>
          <p:cNvSpPr/>
          <p:nvPr/>
        </p:nvSpPr>
        <p:spPr>
          <a:xfrm>
            <a:off x="5486400" y="2362320"/>
            <a:ext cx="2743200" cy="23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Does NOT take cal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C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) = 1- p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5"/>
          <p:cNvSpPr/>
          <p:nvPr/>
        </p:nvSpPr>
        <p:spPr>
          <a:xfrm>
            <a:off x="3809880" y="213372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3"/>
          <p:cNvSpPr/>
          <p:nvPr/>
        </p:nvSpPr>
        <p:spPr>
          <a:xfrm>
            <a:off x="2895480" y="533520"/>
            <a:ext cx="6248520" cy="6324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 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.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5"/>
          <p:cNvSpPr/>
          <p:nvPr/>
        </p:nvSpPr>
        <p:spPr>
          <a:xfrm>
            <a:off x="3809880" y="213372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3"/>
          <p:cNvSpPr/>
          <p:nvPr/>
        </p:nvSpPr>
        <p:spPr>
          <a:xfrm>
            <a:off x="2895480" y="304920"/>
            <a:ext cx="6248520" cy="655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 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.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then substitute this into the conditional probability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5"/>
          <p:cNvSpPr/>
          <p:nvPr/>
        </p:nvSpPr>
        <p:spPr>
          <a:xfrm>
            <a:off x="3886200" y="175248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3"/>
          <p:cNvSpPr/>
          <p:nvPr/>
        </p:nvSpPr>
        <p:spPr>
          <a:xfrm>
            <a:off x="2895480" y="304920"/>
            <a:ext cx="6248520" cy="655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 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.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then substitute this into the conditional probability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5"/>
          <p:cNvSpPr/>
          <p:nvPr/>
        </p:nvSpPr>
        <p:spPr>
          <a:xfrm>
            <a:off x="3886200" y="198108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 txBox="1"/>
          <p:nvPr/>
        </p:nvSpPr>
        <p:spPr>
          <a:xfrm>
            <a:off x="228600" y="0"/>
            <a:ext cx="8686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1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a person actually has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he probability that the test will say that they hav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2: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What is the probability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randomly selected student tests positive for Swine F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3: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If a person has tested positive for Swine Flu, what 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the probability that he/she actually has Swine Fl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4: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rite 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formul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for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|T)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 terms of 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T|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Q5: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Generalise your formula so that it applies to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2 events,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where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s before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Your formula is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ing the probability that 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appened, given tha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as happened, based on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 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LEMS:  Do Statistics &amp; Modelling NCEA Level 3 Revision Gu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Probability:  Q1(v), Q25, Q26(answer in back wrong), Schol qs from 2008 &amp;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3"/>
          <p:cNvSpPr/>
          <p:nvPr/>
        </p:nvSpPr>
        <p:spPr>
          <a:xfrm>
            <a:off x="2895480" y="304920"/>
            <a:ext cx="6248520" cy="655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AYES’  THEOR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or 2 events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)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nd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are kn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Since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So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 P(B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A).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We can then substitute this into the conditional probability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B)  =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A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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B)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=   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B)             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5"/>
          <p:cNvSpPr/>
          <p:nvPr/>
        </p:nvSpPr>
        <p:spPr>
          <a:xfrm>
            <a:off x="3809880" y="1981080"/>
            <a:ext cx="5029200" cy="1373760"/>
          </a:xfrm>
          <a:prstGeom prst="rect">
            <a:avLst/>
          </a:prstGeom>
          <a:solidFill>
            <a:srgbClr val="ffffff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ᅵ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= 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P(B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ᅵ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</a:rPr>
              <a:t>A).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2006 Scholarsh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597240" indent="-597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ll incoming strawberries for making yoghurt are checked for defects.  An automatic scanner is used, followed by a visual inspection.  The scanner removes 90% of defective strawberries and the visual inspection process removes 70% of any remaining defective strawberries.  From previous records, the company knows that 4% of incoming strawberries are de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a)   Calculate the percentage of defective strawberries that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removed by the visual inspec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b)   Calculate the probability that a strawberry that was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o be defective had been removed by the sc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c)    If the scanner is correct 90% of the time, what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robability that a strawberry registered as ‘defective’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he scanner </a:t>
            </a:r>
            <a:r>
              <a:rPr b="0" i="1" lang="en-NZ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actually de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2006 Scholarsh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28600" y="1142640"/>
            <a:ext cx="86868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All incoming strawberries for making yoghurt are checked for defects.  An automatic scanner is used, followed by a visual inspection. 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anner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removes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90%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ective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strawberries and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sual inspection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 proces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removes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70%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of any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aining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defective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 strawberries.  From previous records, the company knows tha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4% of incoming strawberries are defective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(a)    Calculate the percentag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of defective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strawberries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are removed by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sual inspection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NSWER to (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f strawberries are removed by visual insp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2000"/>
                                        <p:tgtEl>
                                          <p:spTgt spid="1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2006 Scholarsh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228600" y="1066320"/>
            <a:ext cx="86868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All incoming strawberries for making yoghurt are checked for defects.  An automatic scanner is used, followed by a visual inspection. 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anner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removes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90%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ective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strawberries and th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sual inspection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 process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removes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70%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of any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aining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defective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 strawberries.  From previous records, the company knows that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4% of incoming strawberries are defective</a:t>
            </a:r>
            <a:r>
              <a:rPr b="0" lang="en-NZ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(b)   Calculate the probability that a strawberry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und to be defective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 had been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oved by the sc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NSWER to (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P(Removed by scanner 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ᅵ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und defective)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   0.928  (3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2000"/>
                                        <p:tgtEl>
                                          <p:spTgt spid="1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lementary Events  </a:t>
            </a: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(no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0" y="1143000"/>
            <a:ext cx="9144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00"/>
                </a:solidFill>
                <a:latin typeface="Comic Sans MS"/>
              </a:rPr>
              <a:t>For any event “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n-NZ" sz="2200" spc="-1" strike="noStrike">
                <a:solidFill>
                  <a:srgbClr val="0000ff"/>
                </a:solidFill>
                <a:latin typeface="Comic Sans MS"/>
              </a:rPr>
              <a:t>: Event A occurs.      </a:t>
            </a:r>
            <a:r>
              <a:rPr b="1" lang="en-NZ" sz="2200" spc="-1" strike="noStrike">
                <a:solidFill>
                  <a:srgbClr val="ff0000"/>
                </a:solidFill>
                <a:latin typeface="Comic Sans MS"/>
              </a:rPr>
              <a:t>A’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: The Complement of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        </a:t>
            </a:r>
            <a:r>
              <a:rPr b="0" lang="en-NZ" sz="2200" spc="-1" strike="noStrike">
                <a:solidFill>
                  <a:srgbClr val="ff0000"/>
                </a:solidFill>
                <a:latin typeface="Comic Sans MS"/>
              </a:rPr>
              <a:t>Event A does NOT occ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where  P(A’) = 1 – 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we select a person at random from this class, the 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     “</a:t>
            </a:r>
            <a:r>
              <a:rPr b="0" lang="en-NZ" sz="2000" spc="-1" strike="noStrike">
                <a:solidFill>
                  <a:srgbClr val="0000ff"/>
                </a:solidFill>
                <a:latin typeface="Comic Sans MS"/>
              </a:rPr>
              <a:t>This  class member takes Calculus” ,   </a:t>
            </a:r>
            <a:r>
              <a:rPr b="1" i="1" lang="en-NZ" sz="2000" spc="-1" strike="noStrike">
                <a:solidFill>
                  <a:srgbClr val="0000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nd    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“This class member does </a:t>
            </a:r>
            <a:r>
              <a:rPr b="0" i="1" lang="en-NZ" sz="2000" spc="-1" strike="noStrike">
                <a:solidFill>
                  <a:srgbClr val="ff0000"/>
                </a:solidFill>
                <a:latin typeface="Comic Sans MS"/>
              </a:rPr>
              <a:t>NOT  t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ake Calculus”,   </a:t>
            </a:r>
            <a:r>
              <a:rPr b="1" i="1" lang="en-NZ" sz="2000" spc="-1" strike="noStrike">
                <a:solidFill>
                  <a:srgbClr val="ff0000"/>
                </a:solidFill>
                <a:latin typeface="Comic Sans MS"/>
              </a:rPr>
              <a:t>C`</a:t>
            </a:r>
            <a:r>
              <a:rPr b="0" lang="en-NZ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mplemen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(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’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    =  1 – P(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1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Quiz – how much do you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Q1) Take two events “A” and “B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Event A occurs 65% of the time, and Event “B” 3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75% of the time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t least 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of “A” or “B” oc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aw a Contingency Table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 Venn Diagram showing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mutually exclusive?  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both A and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statistically independent?  Use statistical reasoning to justify your answer.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ad  Sigma (new) pg. 1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Quiz – how much do you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Q1)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ake two events “A” and “B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 occurs 6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, and 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 3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7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of “A” or “B”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ccur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aw a Contingency Table and a Venn Diagram showing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mutually exclusive?  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both A and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statistically independent?  Use statistical reasoning to justify your answer.   </a:t>
            </a:r>
            <a:r>
              <a:rPr b="0" i="1" lang="en-NZ" sz="2000" spc="-1" strike="noStrike">
                <a:solidFill>
                  <a:srgbClr val="000000"/>
                </a:solidFill>
                <a:latin typeface="Comic Sans MS"/>
              </a:rPr>
              <a:t>Read  Sigma (new) pg. 1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Quiz – how much do you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Q1)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ake two events “A” and “B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 occurs 6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, and 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 3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7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of “A” or “B”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ccur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aw a Contingency Table showing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4" name=""/>
          <p:cNvGraphicFramePr/>
          <p:nvPr/>
        </p:nvGraphicFramePr>
        <p:xfrm>
          <a:off x="304920" y="2971800"/>
          <a:ext cx="8229600" cy="3803760"/>
        </p:xfrm>
        <a:graphic>
          <a:graphicData uri="http://schemas.openxmlformats.org/drawingml/2006/table">
            <a:tbl>
              <a:tblPr/>
              <a:tblGrid>
                <a:gridCol w="2209680"/>
                <a:gridCol w="1905120"/>
                <a:gridCol w="2057400"/>
                <a:gridCol w="2057400"/>
              </a:tblGrid>
              <a:tr h="116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</a:t>
                      </a:r>
                      <a:r>
                        <a:rPr b="0" i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</a:t>
                      </a:r>
                      <a:r>
                        <a:rPr b="0" i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es 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ccu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`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</a:t>
                      </a:r>
                      <a:r>
                        <a:rPr b="0" i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r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</a:t>
                      </a:r>
                      <a:r>
                        <a:rPr b="0" i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es </a:t>
                      </a: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ccu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`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Text Box 11"/>
          <p:cNvSpPr/>
          <p:nvPr/>
        </p:nvSpPr>
        <p:spPr>
          <a:xfrm>
            <a:off x="228600" y="160020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EVENTS “A” and “B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Group 3"/>
          <p:cNvGrpSpPr/>
          <p:nvPr/>
        </p:nvGrpSpPr>
        <p:grpSpPr>
          <a:xfrm>
            <a:off x="304920" y="1676520"/>
            <a:ext cx="5409720" cy="4876200"/>
            <a:chOff x="304920" y="1676520"/>
            <a:chExt cx="5409720" cy="4876200"/>
          </a:xfrm>
        </p:grpSpPr>
        <p:graphicFrame>
          <p:nvGraphicFramePr>
            <p:cNvPr id="1578" name="Object 4"/>
            <p:cNvGraphicFramePr/>
            <p:nvPr/>
          </p:nvGraphicFramePr>
          <p:xfrm>
            <a:off x="304920" y="1676520"/>
            <a:ext cx="4724280" cy="48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9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676520"/>
                      <a:ext cx="472428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0" name="Text Box 5"/>
            <p:cNvSpPr/>
            <p:nvPr/>
          </p:nvSpPr>
          <p:spPr>
            <a:xfrm>
              <a:off x="1483200" y="4162320"/>
              <a:ext cx="423144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Text Box 6"/>
            <p:cNvSpPr/>
            <p:nvPr/>
          </p:nvSpPr>
          <p:spPr>
            <a:xfrm>
              <a:off x="1191240" y="2823840"/>
              <a:ext cx="3796920" cy="15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	</a:t>
              </a: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P(A) = 0.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12"/>
          <p:cNvGrpSpPr/>
          <p:nvPr/>
        </p:nvGrpSpPr>
        <p:grpSpPr>
          <a:xfrm>
            <a:off x="5257800" y="2514600"/>
            <a:ext cx="3504600" cy="3352320"/>
            <a:chOff x="5257800" y="2514600"/>
            <a:chExt cx="3504600" cy="3352320"/>
          </a:xfrm>
        </p:grpSpPr>
        <p:graphicFrame>
          <p:nvGraphicFramePr>
            <p:cNvPr id="1583" name="Object 8"/>
            <p:cNvGraphicFramePr/>
            <p:nvPr/>
          </p:nvGraphicFramePr>
          <p:xfrm>
            <a:off x="5257800" y="2514600"/>
            <a:ext cx="3425760" cy="335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4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51460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5" name="Text Box 9"/>
            <p:cNvSpPr/>
            <p:nvPr/>
          </p:nvSpPr>
          <p:spPr>
            <a:xfrm>
              <a:off x="5678640" y="316656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Text Box 10"/>
          <p:cNvSpPr/>
          <p:nvPr/>
        </p:nvSpPr>
        <p:spPr>
          <a:xfrm>
            <a:off x="5927760" y="371304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77393E-008 L 0.08611 -0.00555 E">
                                      <p:cBhvr>
                                        <p:cTn id="562" dur="2000" fill="hold"/>
                                        <p:tgtEl>
                                          <p:spTgt spid="1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 -1.11111E-006 E">
                                      <p:cBhvr>
                                        <p:cTn id="564" dur="2000" fill="hold"/>
                                        <p:tgtEl>
                                          <p:spTgt spid="1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11"/>
          <p:cNvSpPr/>
          <p:nvPr/>
        </p:nvSpPr>
        <p:spPr>
          <a:xfrm>
            <a:off x="152280" y="1523880"/>
            <a:ext cx="861084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9" name="Object 4"/>
          <p:cNvGraphicFramePr/>
          <p:nvPr/>
        </p:nvGraphicFramePr>
        <p:xfrm>
          <a:off x="685800" y="1676520"/>
          <a:ext cx="47926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79268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1" name="Text Box 5"/>
          <p:cNvSpPr/>
          <p:nvPr/>
        </p:nvSpPr>
        <p:spPr>
          <a:xfrm>
            <a:off x="1900080" y="4046400"/>
            <a:ext cx="381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2" name="Object 8"/>
          <p:cNvGraphicFramePr/>
          <p:nvPr/>
        </p:nvGraphicFramePr>
        <p:xfrm>
          <a:off x="3886200" y="2438280"/>
          <a:ext cx="3429000" cy="345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438280"/>
                    <a:ext cx="342900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4" name="Chord 13"/>
          <p:cNvSpPr/>
          <p:nvPr/>
        </p:nvSpPr>
        <p:spPr>
          <a:xfrm>
            <a:off x="3886200" y="2590920"/>
            <a:ext cx="2362320" cy="3124080"/>
          </a:xfrm>
          <a:custGeom>
            <a:avLst/>
            <a:gdLst/>
            <a:ahLst/>
            <a:rect l="l" t="t" r="r" b="b"/>
            <a:pathLst>
              <a:path w="2362200" h="3124200">
                <a:moveTo>
                  <a:pt x="1013060" y="3108309"/>
                </a:moveTo>
                <a:cubicBezTo>
                  <a:pt x="430824" y="2997624"/>
                  <a:pt x="-1088" y="2337172"/>
                  <a:pt x="2" y="1559206"/>
                </a:cubicBezTo>
                <a:cubicBezTo>
                  <a:pt x="1094" y="779624"/>
                  <a:pt x="436606" y="120446"/>
                  <a:pt x="1020578" y="14494"/>
                </a:cubicBezTo>
                <a:lnTo>
                  <a:pt x="1013060" y="310830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Chord 14"/>
          <p:cNvSpPr/>
          <p:nvPr/>
        </p:nvSpPr>
        <p:spPr>
          <a:xfrm flipH="1">
            <a:off x="4038480" y="2514600"/>
            <a:ext cx="1330560" cy="3200400"/>
          </a:xfrm>
          <a:custGeom>
            <a:avLst/>
            <a:gdLst/>
            <a:ahLst/>
            <a:rect l="l" t="t" r="r" b="b"/>
            <a:pathLst>
              <a:path w="1330325" h="3200400">
                <a:moveTo>
                  <a:pt x="496911" y="3148361"/>
                </a:moveTo>
                <a:cubicBezTo>
                  <a:pt x="203947" y="2964093"/>
                  <a:pt x="-308" y="2327050"/>
                  <a:pt x="0" y="1598570"/>
                </a:cubicBezTo>
                <a:cubicBezTo>
                  <a:pt x="311" y="864633"/>
                  <a:pt x="208120" y="225295"/>
                  <a:pt x="504124" y="47606"/>
                </a:cubicBezTo>
                <a:cubicBezTo>
                  <a:pt x="501720" y="1081191"/>
                  <a:pt x="499315" y="2114776"/>
                  <a:pt x="496911" y="3148361"/>
                </a:cubicBez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Text Box 6"/>
          <p:cNvSpPr/>
          <p:nvPr/>
        </p:nvSpPr>
        <p:spPr>
          <a:xfrm>
            <a:off x="304920" y="380880"/>
            <a:ext cx="8610480" cy="6209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7" name="Object 2"/>
          <p:cNvGraphicFramePr/>
          <p:nvPr/>
        </p:nvGraphicFramePr>
        <p:xfrm>
          <a:off x="1866960" y="1565280"/>
          <a:ext cx="540864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565280"/>
                    <a:ext cx="540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Text Box 4"/>
          <p:cNvSpPr/>
          <p:nvPr/>
        </p:nvSpPr>
        <p:spPr>
          <a:xfrm>
            <a:off x="1370160" y="304812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OR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 B (or 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(A </a:t>
            </a:r>
            <a:r>
              <a:rPr b="1" lang="el-G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υ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 Box 5"/>
          <p:cNvSpPr/>
          <p:nvPr/>
        </p:nvSpPr>
        <p:spPr>
          <a:xfrm>
            <a:off x="2894040" y="1828800"/>
            <a:ext cx="4038480" cy="642600"/>
          </a:xfrm>
          <a:prstGeom prst="rect">
            <a:avLst/>
          </a:prstGeom>
          <a:solidFill>
            <a:srgbClr val="ffffff"/>
          </a:solidFill>
          <a:ln w="66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l-GR" sz="36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B)  = 0.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Quiz – how much do you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Q1)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ake two events “A” and “B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 occurs 6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, and Even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 3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75%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f the time,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of “A” or “B”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occur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aw a Contingency Table showing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mutually exclusive?  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 both A and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What percentage of the time does 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re events A and B statistically independent?  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Text Box 11"/>
          <p:cNvSpPr/>
          <p:nvPr/>
        </p:nvSpPr>
        <p:spPr>
          <a:xfrm>
            <a:off x="228600" y="160020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4" name="Group 3"/>
          <p:cNvGrpSpPr/>
          <p:nvPr/>
        </p:nvGrpSpPr>
        <p:grpSpPr>
          <a:xfrm>
            <a:off x="304920" y="1676520"/>
            <a:ext cx="5409720" cy="4876200"/>
            <a:chOff x="304920" y="1676520"/>
            <a:chExt cx="5409720" cy="4876200"/>
          </a:xfrm>
        </p:grpSpPr>
        <p:graphicFrame>
          <p:nvGraphicFramePr>
            <p:cNvPr id="1605" name="Object 4"/>
            <p:cNvGraphicFramePr/>
            <p:nvPr/>
          </p:nvGraphicFramePr>
          <p:xfrm>
            <a:off x="304920" y="1676520"/>
            <a:ext cx="4724280" cy="48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676520"/>
                      <a:ext cx="472428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7" name="Text Box 5"/>
            <p:cNvSpPr/>
            <p:nvPr/>
          </p:nvSpPr>
          <p:spPr>
            <a:xfrm>
              <a:off x="1483200" y="4162320"/>
              <a:ext cx="423144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Text Box 6"/>
            <p:cNvSpPr/>
            <p:nvPr/>
          </p:nvSpPr>
          <p:spPr>
            <a:xfrm>
              <a:off x="1191240" y="2823840"/>
              <a:ext cx="3796920" cy="15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	</a:t>
              </a: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P(A) = 0.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Group 12"/>
          <p:cNvGrpSpPr/>
          <p:nvPr/>
        </p:nvGrpSpPr>
        <p:grpSpPr>
          <a:xfrm>
            <a:off x="5257800" y="2514600"/>
            <a:ext cx="3504600" cy="3352320"/>
            <a:chOff x="5257800" y="2514600"/>
            <a:chExt cx="3504600" cy="3352320"/>
          </a:xfrm>
        </p:grpSpPr>
        <p:graphicFrame>
          <p:nvGraphicFramePr>
            <p:cNvPr id="1610" name="Object 8"/>
            <p:cNvGraphicFramePr/>
            <p:nvPr/>
          </p:nvGraphicFramePr>
          <p:xfrm>
            <a:off x="5257800" y="2514600"/>
            <a:ext cx="3425760" cy="335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1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51460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2" name="Text Box 9"/>
            <p:cNvSpPr/>
            <p:nvPr/>
          </p:nvSpPr>
          <p:spPr>
            <a:xfrm>
              <a:off x="5678640" y="316656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 ?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 +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	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Text Box 11"/>
          <p:cNvSpPr/>
          <p:nvPr/>
        </p:nvSpPr>
        <p:spPr>
          <a:xfrm>
            <a:off x="228600" y="160020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12"/>
          <p:cNvGrpSpPr/>
          <p:nvPr/>
        </p:nvGrpSpPr>
        <p:grpSpPr>
          <a:xfrm>
            <a:off x="5257800" y="2514600"/>
            <a:ext cx="3504600" cy="3352320"/>
            <a:chOff x="5257800" y="2514600"/>
            <a:chExt cx="3504600" cy="3352320"/>
          </a:xfrm>
        </p:grpSpPr>
        <p:graphicFrame>
          <p:nvGraphicFramePr>
            <p:cNvPr id="1616" name="Object 8"/>
            <p:cNvGraphicFramePr/>
            <p:nvPr/>
          </p:nvGraphicFramePr>
          <p:xfrm>
            <a:off x="5257800" y="251460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51460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8" name="Text Box 9"/>
            <p:cNvSpPr/>
            <p:nvPr/>
          </p:nvSpPr>
          <p:spPr>
            <a:xfrm>
              <a:off x="5678640" y="316656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9" name="Object 4"/>
          <p:cNvGraphicFramePr/>
          <p:nvPr/>
        </p:nvGraphicFramePr>
        <p:xfrm>
          <a:off x="304920" y="167652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7652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1" name="Text Box 6"/>
          <p:cNvSpPr/>
          <p:nvPr/>
        </p:nvSpPr>
        <p:spPr>
          <a:xfrm>
            <a:off x="1190520" y="282420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Text Box 11"/>
          <p:cNvSpPr/>
          <p:nvPr/>
        </p:nvSpPr>
        <p:spPr>
          <a:xfrm>
            <a:off x="228600" y="160020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Group 12"/>
          <p:cNvGrpSpPr/>
          <p:nvPr/>
        </p:nvGrpSpPr>
        <p:grpSpPr>
          <a:xfrm>
            <a:off x="5257800" y="2514600"/>
            <a:ext cx="3504600" cy="3352320"/>
            <a:chOff x="5257800" y="2514600"/>
            <a:chExt cx="3504600" cy="3352320"/>
          </a:xfrm>
        </p:grpSpPr>
        <p:graphicFrame>
          <p:nvGraphicFramePr>
            <p:cNvPr id="1625" name="Object 8"/>
            <p:cNvGraphicFramePr/>
            <p:nvPr/>
          </p:nvGraphicFramePr>
          <p:xfrm>
            <a:off x="5257800" y="251460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51460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7" name="Text Box 9"/>
            <p:cNvSpPr/>
            <p:nvPr/>
          </p:nvSpPr>
          <p:spPr>
            <a:xfrm>
              <a:off x="5678640" y="316656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28" name="Object 4"/>
          <p:cNvGraphicFramePr/>
          <p:nvPr/>
        </p:nvGraphicFramePr>
        <p:xfrm>
          <a:off x="304920" y="167652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7652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0" name="Text Box 6"/>
          <p:cNvSpPr/>
          <p:nvPr/>
        </p:nvSpPr>
        <p:spPr>
          <a:xfrm>
            <a:off x="1190520" y="282420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60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INTERSECT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Group 11"/>
          <p:cNvGrpSpPr/>
          <p:nvPr/>
        </p:nvGrpSpPr>
        <p:grpSpPr>
          <a:xfrm>
            <a:off x="533520" y="2057400"/>
            <a:ext cx="4530240" cy="3962160"/>
            <a:chOff x="533520" y="2057400"/>
            <a:chExt cx="4530240" cy="3962160"/>
          </a:xfrm>
        </p:grpSpPr>
        <p:graphicFrame>
          <p:nvGraphicFramePr>
            <p:cNvPr id="1322" name="Object 7"/>
            <p:cNvGraphicFramePr/>
            <p:nvPr/>
          </p:nvGraphicFramePr>
          <p:xfrm>
            <a:off x="533520" y="2057400"/>
            <a:ext cx="3956400" cy="3962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3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057400"/>
                      <a:ext cx="3956400" cy="396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4" name="Text Box 3"/>
            <p:cNvSpPr/>
            <p:nvPr/>
          </p:nvSpPr>
          <p:spPr>
            <a:xfrm>
              <a:off x="1520280" y="4077360"/>
              <a:ext cx="354348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Text Box 5"/>
            <p:cNvSpPr/>
            <p:nvPr/>
          </p:nvSpPr>
          <p:spPr>
            <a:xfrm>
              <a:off x="1275480" y="2989440"/>
              <a:ext cx="31798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Takes Cal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(C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12"/>
          <p:cNvGrpSpPr/>
          <p:nvPr/>
        </p:nvGrpSpPr>
        <p:grpSpPr>
          <a:xfrm>
            <a:off x="4978440" y="1905120"/>
            <a:ext cx="4622400" cy="3961800"/>
            <a:chOff x="4978440" y="1905120"/>
            <a:chExt cx="4622400" cy="3961800"/>
          </a:xfrm>
        </p:grpSpPr>
        <p:graphicFrame>
          <p:nvGraphicFramePr>
            <p:cNvPr id="1327" name="Object 8"/>
            <p:cNvGraphicFramePr/>
            <p:nvPr/>
          </p:nvGraphicFramePr>
          <p:xfrm>
            <a:off x="4978440" y="1905120"/>
            <a:ext cx="3954960" cy="396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78440" y="1905120"/>
                      <a:ext cx="3954960" cy="39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9" name="Text Box 4"/>
            <p:cNvSpPr/>
            <p:nvPr/>
          </p:nvSpPr>
          <p:spPr>
            <a:xfrm>
              <a:off x="5795640" y="2697480"/>
              <a:ext cx="30441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Takes Phys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(Ph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Text Box 6"/>
            <p:cNvSpPr/>
            <p:nvPr/>
          </p:nvSpPr>
          <p:spPr>
            <a:xfrm>
              <a:off x="5925960" y="3965040"/>
              <a:ext cx="3674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77393E-008 L 0.08611 -0.00555 E">
                                      <p:cBhvr>
                                        <p:cTn id="96" dur="20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57836E-006 L -0.08889 3.57836E-006 E">
                                      <p:cBhvr>
                                        <p:cTn id="98" dur="2000" fill="hold"/>
                                        <p:tgtEl>
                                          <p:spTgt spid="1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34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6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7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9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43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44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5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46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52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4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55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7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800"/>
            </a:b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0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61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3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4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6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 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-  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800"/>
            </a:b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70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1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2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3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5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 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-  0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800"/>
            </a:b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79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1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82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4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667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 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-  0 </a:t>
            </a:r>
            <a:br>
              <a:rPr sz="2800"/>
            </a:b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8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800"/>
            </a:b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800"/>
            </a:b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8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.</a:t>
            </a:r>
            <a:r>
              <a:rPr b="1" lang="en-NZ" sz="28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 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 this true in this e.g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7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688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9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0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91" name="Object 4"/>
          <p:cNvGraphicFramePr/>
          <p:nvPr/>
        </p:nvGraphicFramePr>
        <p:xfrm>
          <a:off x="304920" y="1951200"/>
          <a:ext cx="4724280" cy="48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51200"/>
                    <a:ext cx="4724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3" name="Text Box 6"/>
          <p:cNvSpPr/>
          <p:nvPr/>
        </p:nvSpPr>
        <p:spPr>
          <a:xfrm>
            <a:off x="1190520" y="3098880"/>
            <a:ext cx="37990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NZ" sz="4800" spc="-1" strike="noStrike">
                <a:solidFill>
                  <a:srgbClr val="0000ff"/>
                </a:solidFill>
                <a:latin typeface="Comic Sans MS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P(A) = 0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22100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- 0</a:t>
            </a:r>
            <a:br>
              <a:rPr sz="2400"/>
            </a:b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400"/>
            </a:b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. 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 this true in this e.g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Group 3"/>
          <p:cNvGrpSpPr/>
          <p:nvPr/>
        </p:nvGrpSpPr>
        <p:grpSpPr>
          <a:xfrm>
            <a:off x="304920" y="1951200"/>
            <a:ext cx="5409720" cy="4876200"/>
            <a:chOff x="304920" y="1951200"/>
            <a:chExt cx="5409720" cy="4876200"/>
          </a:xfrm>
        </p:grpSpPr>
        <p:graphicFrame>
          <p:nvGraphicFramePr>
            <p:cNvPr id="1697" name="Object 4"/>
            <p:cNvGraphicFramePr/>
            <p:nvPr/>
          </p:nvGraphicFramePr>
          <p:xfrm>
            <a:off x="304920" y="1951200"/>
            <a:ext cx="4724280" cy="48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51200"/>
                      <a:ext cx="472428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9" name="Text Box 5"/>
            <p:cNvSpPr/>
            <p:nvPr/>
          </p:nvSpPr>
          <p:spPr>
            <a:xfrm>
              <a:off x="1483200" y="4437000"/>
              <a:ext cx="423144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Text Box 6"/>
            <p:cNvSpPr/>
            <p:nvPr/>
          </p:nvSpPr>
          <p:spPr>
            <a:xfrm>
              <a:off x="1191240" y="3098520"/>
              <a:ext cx="3796920" cy="15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	</a:t>
              </a: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P(A) = 0.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702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3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4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23619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 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- 0</a:t>
            </a:r>
            <a:br>
              <a:rPr sz="2400"/>
            </a:b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400"/>
            </a:b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P(A </a:t>
            </a:r>
            <a:r>
              <a:rPr b="1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 B) = 0. 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 this true in this e.g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5"/>
          <p:cNvSpPr/>
          <p:nvPr/>
        </p:nvSpPr>
        <p:spPr>
          <a:xfrm>
            <a:off x="3048120" y="3886200"/>
            <a:ext cx="4038480" cy="5508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</a:rPr>
              <a:t>B)  = 0.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8"/>
          <p:cNvSpPr/>
          <p:nvPr/>
        </p:nvSpPr>
        <p:spPr>
          <a:xfrm>
            <a:off x="990720" y="4857840"/>
            <a:ext cx="7467480" cy="18612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) = P(A) + P(B) – 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Text Box 11"/>
          <p:cNvSpPr/>
          <p:nvPr/>
        </p:nvSpPr>
        <p:spPr>
          <a:xfrm>
            <a:off x="228600" y="1874880"/>
            <a:ext cx="8610480" cy="495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9" name="Group 3"/>
          <p:cNvGrpSpPr/>
          <p:nvPr/>
        </p:nvGrpSpPr>
        <p:grpSpPr>
          <a:xfrm>
            <a:off x="304920" y="1951200"/>
            <a:ext cx="5409720" cy="4876200"/>
            <a:chOff x="304920" y="1951200"/>
            <a:chExt cx="5409720" cy="4876200"/>
          </a:xfrm>
        </p:grpSpPr>
        <p:graphicFrame>
          <p:nvGraphicFramePr>
            <p:cNvPr id="1710" name="Object 4"/>
            <p:cNvGraphicFramePr/>
            <p:nvPr/>
          </p:nvGraphicFramePr>
          <p:xfrm>
            <a:off x="304920" y="1951200"/>
            <a:ext cx="4724280" cy="48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51200"/>
                      <a:ext cx="472428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2" name="Text Box 5"/>
            <p:cNvSpPr/>
            <p:nvPr/>
          </p:nvSpPr>
          <p:spPr>
            <a:xfrm>
              <a:off x="1483200" y="4437000"/>
              <a:ext cx="423144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Text Box 6"/>
            <p:cNvSpPr/>
            <p:nvPr/>
          </p:nvSpPr>
          <p:spPr>
            <a:xfrm>
              <a:off x="1191240" y="3098520"/>
              <a:ext cx="3796920" cy="15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	</a:t>
              </a:r>
              <a:r>
                <a:rPr b="1" lang="en-NZ" sz="4800" spc="-1" strike="noStrike">
                  <a:solidFill>
                    <a:srgbClr val="0000ff"/>
                  </a:solidFill>
                  <a:latin typeface="Comic Sans MS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ff"/>
                  </a:solidFill>
                  <a:latin typeface="Comic Sans MS"/>
                </a:rPr>
                <a:t>P(A) = 0.6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Group 12"/>
          <p:cNvGrpSpPr/>
          <p:nvPr/>
        </p:nvGrpSpPr>
        <p:grpSpPr>
          <a:xfrm>
            <a:off x="5257800" y="2789280"/>
            <a:ext cx="3504600" cy="3352320"/>
            <a:chOff x="5257800" y="2789280"/>
            <a:chExt cx="3504600" cy="3352320"/>
          </a:xfrm>
        </p:grpSpPr>
        <p:graphicFrame>
          <p:nvGraphicFramePr>
            <p:cNvPr id="1715" name="Object 8"/>
            <p:cNvGraphicFramePr/>
            <p:nvPr/>
          </p:nvGraphicFramePr>
          <p:xfrm>
            <a:off x="5257800" y="2789280"/>
            <a:ext cx="3425760" cy="335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57800" y="2789280"/>
                      <a:ext cx="3425760" cy="33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7" name="Text Box 9"/>
            <p:cNvSpPr/>
            <p:nvPr/>
          </p:nvSpPr>
          <p:spPr>
            <a:xfrm>
              <a:off x="5678640" y="3441240"/>
              <a:ext cx="3083760" cy="147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336600"/>
                  </a:solidFill>
                  <a:latin typeface="Comic Sans MS"/>
                </a:rPr>
                <a:t>    </a:t>
              </a:r>
              <a:r>
                <a:rPr b="1" lang="en-NZ" sz="4800" spc="-1" strike="noStrike">
                  <a:solidFill>
                    <a:srgbClr val="336600"/>
                  </a:solidFill>
                  <a:latin typeface="Comic Sans MS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800" spc="-1" strike="noStrike">
                  <a:solidFill>
                    <a:srgbClr val="336600"/>
                  </a:solidFill>
                  <a:latin typeface="Comic Sans MS"/>
                </a:rPr>
                <a:t>P(B) = 0.3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If “A” and “B” were mutually exclusive, then: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)  =  P(A)   +   P(B)</a:t>
            </a:r>
            <a:br>
              <a:rPr sz="2400"/>
            </a:b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Why?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cause there would be </a:t>
            </a:r>
            <a:r>
              <a:rPr b="1" lang="en-NZ" sz="2400" spc="-1" strike="noStrike" u="sng">
                <a:solidFill>
                  <a:srgbClr val="000000"/>
                </a:solidFill>
                <a:uFillTx/>
                <a:latin typeface="Comic Sans MS"/>
                <a:ea typeface="Arial Unicode MS"/>
              </a:rPr>
              <a:t>NO INTERSECTION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If 2 event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amp;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 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re mutually exclusive then</a:t>
            </a:r>
            <a:br>
              <a:rPr sz="2400"/>
            </a:b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P(A </a:t>
            </a:r>
            <a:r>
              <a:rPr b="1" lang="en-NZ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 B) = 0.  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Is this true in this e.g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 Box 5"/>
          <p:cNvSpPr/>
          <p:nvPr/>
        </p:nvSpPr>
        <p:spPr>
          <a:xfrm>
            <a:off x="3048120" y="3886200"/>
            <a:ext cx="4038480" cy="5508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0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000" spc="-1" strike="noStrike">
                <a:solidFill>
                  <a:srgbClr val="000000"/>
                </a:solidFill>
                <a:latin typeface="Comic Sans MS"/>
              </a:rPr>
              <a:t>B)  = 0.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 Box 8"/>
          <p:cNvSpPr/>
          <p:nvPr/>
        </p:nvSpPr>
        <p:spPr>
          <a:xfrm>
            <a:off x="990720" y="4857840"/>
            <a:ext cx="7467480" cy="1861200"/>
          </a:xfrm>
          <a:prstGeom prst="rect">
            <a:avLst/>
          </a:prstGeom>
          <a:solidFill>
            <a:srgbClr val="ffffff"/>
          </a:solidFill>
          <a:ln w="66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) = P(A) + P(B) – P(A</a:t>
            </a:r>
            <a:r>
              <a:rPr b="1" lang="en-N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77393E-008 L 0.08611 -0.00555 E">
                                      <p:cBhvr>
                                        <p:cTn id="594" dur="2000" fill="hold"/>
                                        <p:tgtEl>
                                          <p:spTgt spid="1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 -1.11111E-006 E">
                                      <p:cBhvr>
                                        <p:cTn id="596" dur="2000" fill="hold"/>
                                        <p:tgtEl>
                                          <p:spTgt spid="1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Text Box 2"/>
          <p:cNvSpPr/>
          <p:nvPr/>
        </p:nvSpPr>
        <p:spPr>
          <a:xfrm>
            <a:off x="533520" y="1874880"/>
            <a:ext cx="8076960" cy="4957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2" name="Object 3"/>
          <p:cNvGraphicFramePr/>
          <p:nvPr/>
        </p:nvGraphicFramePr>
        <p:xfrm>
          <a:off x="1866960" y="1992240"/>
          <a:ext cx="540864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992240"/>
                    <a:ext cx="540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4" name="Text Box 4"/>
          <p:cNvSpPr/>
          <p:nvPr/>
        </p:nvSpPr>
        <p:spPr>
          <a:xfrm>
            <a:off x="3200400" y="3627360"/>
            <a:ext cx="4038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B)  =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5"/>
          <p:cNvSpPr/>
          <p:nvPr/>
        </p:nvSpPr>
        <p:spPr>
          <a:xfrm>
            <a:off x="0" y="609480"/>
            <a:ext cx="91440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(d) What percentage of the time does </a:t>
            </a:r>
            <a:r>
              <a:rPr b="0" lang="en-NZ" sz="32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3"/>
          <p:cNvSpPr/>
          <p:nvPr/>
        </p:nvSpPr>
        <p:spPr>
          <a:xfrm>
            <a:off x="685800" y="1752480"/>
            <a:ext cx="7772400" cy="452592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2" name="Object 8"/>
          <p:cNvGraphicFramePr/>
          <p:nvPr/>
        </p:nvGraphicFramePr>
        <p:xfrm>
          <a:off x="814320" y="1905120"/>
          <a:ext cx="7186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1905120"/>
                    <a:ext cx="7186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4" name="Text Box 4"/>
          <p:cNvSpPr/>
          <p:nvPr/>
        </p:nvSpPr>
        <p:spPr>
          <a:xfrm>
            <a:off x="5181480" y="2895480"/>
            <a:ext cx="2743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Comic Sans MS"/>
              </a:rPr>
              <a:t>Takes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Comic Sans MS"/>
              </a:rPr>
              <a:t>(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1523880" y="304812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Takes Ca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ff"/>
                </a:solidFill>
                <a:latin typeface="Comic Sans MS"/>
              </a:rPr>
              <a:t>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THE INTERSECTION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“A” </a:t>
            </a:r>
            <a:r>
              <a:rPr b="1" lang="en-NZ" sz="40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 “B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Text Box 10"/>
          <p:cNvSpPr/>
          <p:nvPr/>
        </p:nvSpPr>
        <p:spPr>
          <a:xfrm>
            <a:off x="533520" y="1874880"/>
            <a:ext cx="8076960" cy="4957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7" name="Object 8"/>
          <p:cNvGraphicFramePr/>
          <p:nvPr/>
        </p:nvGraphicFramePr>
        <p:xfrm>
          <a:off x="1866960" y="1565280"/>
          <a:ext cx="540864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6960" y="1565280"/>
                    <a:ext cx="540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9" name="Text Box 5"/>
          <p:cNvSpPr/>
          <p:nvPr/>
        </p:nvSpPr>
        <p:spPr>
          <a:xfrm>
            <a:off x="3200400" y="3627360"/>
            <a:ext cx="4038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(A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B)  =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6"/>
          <p:cNvSpPr/>
          <p:nvPr/>
        </p:nvSpPr>
        <p:spPr>
          <a:xfrm>
            <a:off x="0" y="655560"/>
            <a:ext cx="91440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(d) What percentage of the time does </a:t>
            </a:r>
            <a:r>
              <a:rPr b="1" lang="en-NZ" sz="2600" spc="-1" strike="noStrike" u="sng">
                <a:solidFill>
                  <a:srgbClr val="000000"/>
                </a:solidFill>
                <a:uFillTx/>
                <a:latin typeface="Comic Sans MS"/>
              </a:rPr>
              <a:t>neither</a:t>
            </a: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 A nor B occu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 Box 11"/>
          <p:cNvSpPr/>
          <p:nvPr/>
        </p:nvSpPr>
        <p:spPr>
          <a:xfrm>
            <a:off x="1905120" y="4694400"/>
            <a:ext cx="6400800" cy="2033640"/>
          </a:xfrm>
          <a:prstGeom prst="rect">
            <a:avLst/>
          </a:prstGeom>
          <a:solidFill>
            <a:srgbClr val="ccffff"/>
          </a:solidFill>
          <a:ln w="66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NZ" sz="3600" spc="-1" strike="noStrike">
                <a:solidFill>
                  <a:srgbClr val="000000"/>
                </a:solidFill>
                <a:latin typeface="Comic Sans MS"/>
              </a:rPr>
              <a:t>Nor”  =  1- “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P(Neither A nor B)    =   1 – P(A </a:t>
            </a:r>
            <a:r>
              <a:rPr b="1" lang="el-GR" sz="2000" spc="-1" strike="noStrike">
                <a:solidFill>
                  <a:srgbClr val="000000"/>
                </a:solidFill>
                <a:latin typeface="Comic Sans MS"/>
              </a:rPr>
              <a:t>υ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=   1 – 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=   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6" dur="3000" fill="hold"/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 3 cones in a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For each cone, the probability that he collects it is 0.2, that he just knocks it over is 0.55, and that he misses it altogether is 0.2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Draw a probability tree for this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llects 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Draw a probability tree for this situ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If he collects one he will stop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Draw a probability tree for this situation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Draw a probability tree for this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alculate the probability th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knocks over all 3 c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misses the first two cones, but collects the th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Comic Sans MS"/>
              </a:rPr>
              <a:t>Q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c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misses the first two cones, but collects the thi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d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knocks over exactly two c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collects one of the cones (call th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</a:t>
            </a:r>
            <a:r>
              <a:rPr b="0" lang="en-NZ" sz="1400" spc="-1" strike="noStrike">
                <a:solidFill>
                  <a:srgbClr val="333399"/>
                </a:solidFill>
                <a:latin typeface="Comic Sans MS"/>
              </a:rPr>
              <a:t>keep try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e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he collects one of the cones (call th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f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Give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examples of pairs o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ven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are mutually exclusive in this situation (think in terms of results – number of cones knocked over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(g)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Another equally bright student tries to do the same thing on the other side of the van.  He also has 3 cones in a row.  For each cone, the probability that he collects it is 0.2063.  He will also stop if he collects one.  If the probability of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oth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students collecting one of the cones is approximately 0.2440, are events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(student A collects one) and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(student B collects one) statistically independent?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Some year 13 students on a school trip are travelling past some road works and one leans out the window and tries to grab the road cones as they pass.  There ar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cones in a row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Fo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each con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the probability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t 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that he just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knocks it ov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55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nd that he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misses it altogether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5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If he collects one he will stop, content with his prize.  Otherwise he will keep tr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e) he collects one of the cones (call this 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event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f) Describe two </a:t>
            </a:r>
            <a:r>
              <a:rPr b="1" i="1" lang="en-NZ" sz="2000" spc="-1" strike="noStrike">
                <a:solidFill>
                  <a:srgbClr val="000000"/>
                </a:solidFill>
                <a:latin typeface="Comic Sans MS"/>
              </a:rPr>
              <a:t>events</a:t>
            </a: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 that are mutually exclusive in this situation (think in terms of results – number of cones knocked over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(g) 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Another equally bright student tries to do the same thing on the other side of the van.  He also ha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 cones in a row.  For each cone, the probability that he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ects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 it is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063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.  He will also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stop if he collects one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.  If the probability of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oth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students collecting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 one of the cones is approx.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0.2440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, are events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(student A collects one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NZ" sz="2000" spc="-1" strike="noStrike">
                <a:solidFill>
                  <a:srgbClr val="333399"/>
                </a:solidFill>
                <a:latin typeface="Comic Sans MS"/>
              </a:rPr>
              <a:t> and </a:t>
            </a: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B</a:t>
            </a:r>
            <a:r>
              <a:rPr b="0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NZ" sz="2000" spc="-1" strike="noStrike" u="sng">
                <a:solidFill>
                  <a:srgbClr val="000000"/>
                </a:solidFill>
                <a:uFillTx/>
                <a:latin typeface="Comic Sans MS"/>
              </a:rPr>
              <a:t>(student B collects one) statistically independent</a:t>
            </a: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Use statistical reasoning to justify your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emy Brocklehurst</dc:creator>
  <dc:description/>
  <dc:language>en-US</dc:language>
  <cp:lastModifiedBy>Jeremy Brocklehurst</cp:lastModifiedBy>
  <dcterms:modified xsi:type="dcterms:W3CDTF">2011-04-08T22:51:39Z</dcterms:modified>
  <cp:revision>619</cp:revision>
  <dc:subject>Year 13 Statistics &amp; Modelling</dc:subject>
  <dc:title>Probability - basic princi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